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10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11.wmf" ContentType="image/x-wmf"/>
  <Override PartName="/ppt/media/image6.wmf" ContentType="image/x-wmf"/>
  <Override PartName="/ppt/media/image9.wmf" ContentType="image/x-wmf"/>
  <Override PartName="/ppt/media/image5.jpeg" ContentType="image/jpeg"/>
  <Override PartName="/ppt/media/image18.wmf" ContentType="image/x-wmf"/>
  <Override PartName="/ppt/media/image20.wmf" ContentType="image/x-wmf"/>
  <Override PartName="/ppt/media/image2.jpeg" ContentType="image/jpeg"/>
  <Override PartName="/ppt/media/image25.wmf" ContentType="image/x-wmf"/>
  <Override PartName="/ppt/media/image27.jpeg" ContentType="image/jpeg"/>
  <Override PartName="/ppt/media/image16.wmf" ContentType="image/x-wmf"/>
  <Override PartName="/ppt/media/image26.wmf" ContentType="image/x-wmf"/>
  <Override PartName="/ppt/media/image14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17.wmf" ContentType="image/x-wmf"/>
  <Override PartName="/ppt/media/image15.wmf" ContentType="image/x-wmf"/>
  <Override PartName="/ppt/media/image1.png" ContentType="image/pn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  <p:sldId id="285" r:id="rId43"/>
    <p:sldId id="286" r:id="rId44"/>
    <p:sldId id="287" r:id="rId45"/>
    <p:sldId id="288" r:id="rId46"/>
    <p:sldId id="289" r:id="rId47"/>
    <p:sldId id="290" r:id="rId48"/>
    <p:sldId id="291" r:id="rId49"/>
    <p:sldId id="292" r:id="rId50"/>
    <p:sldId id="293" r:id="rId51"/>
    <p:sldId id="294" r:id="rId52"/>
    <p:sldId id="295" r:id="rId53"/>
    <p:sldId id="296" r:id="rId54"/>
    <p:sldId id="297" r:id="rId55"/>
    <p:sldId id="298" r:id="rId56"/>
    <p:sldId id="299" r:id="rId57"/>
    <p:sldId id="300" r:id="rId58"/>
    <p:sldId id="301" r:id="rId59"/>
    <p:sldId id="302" r:id="rId60"/>
    <p:sldId id="303" r:id="rId61"/>
    <p:sldId id="304" r:id="rId62"/>
    <p:sldId id="30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slide" Target="slides/slide30.xml"/><Relationship Id="rId44" Type="http://schemas.openxmlformats.org/officeDocument/2006/relationships/slide" Target="slides/slide31.xml"/><Relationship Id="rId45" Type="http://schemas.openxmlformats.org/officeDocument/2006/relationships/slide" Target="slides/slide32.xml"/><Relationship Id="rId46" Type="http://schemas.openxmlformats.org/officeDocument/2006/relationships/slide" Target="slides/slide33.xml"/><Relationship Id="rId47" Type="http://schemas.openxmlformats.org/officeDocument/2006/relationships/slide" Target="slides/slide34.xml"/><Relationship Id="rId48" Type="http://schemas.openxmlformats.org/officeDocument/2006/relationships/slide" Target="slides/slide35.xml"/><Relationship Id="rId49" Type="http://schemas.openxmlformats.org/officeDocument/2006/relationships/slide" Target="slides/slide36.xml"/><Relationship Id="rId50" Type="http://schemas.openxmlformats.org/officeDocument/2006/relationships/slide" Target="slides/slide37.xml"/><Relationship Id="rId51" Type="http://schemas.openxmlformats.org/officeDocument/2006/relationships/slide" Target="slides/slide38.xml"/><Relationship Id="rId52" Type="http://schemas.openxmlformats.org/officeDocument/2006/relationships/slide" Target="slides/slide39.xml"/><Relationship Id="rId53" Type="http://schemas.openxmlformats.org/officeDocument/2006/relationships/slide" Target="slides/slide40.xml"/><Relationship Id="rId54" Type="http://schemas.openxmlformats.org/officeDocument/2006/relationships/slide" Target="slides/slide41.xml"/><Relationship Id="rId55" Type="http://schemas.openxmlformats.org/officeDocument/2006/relationships/slide" Target="slides/slide42.xml"/><Relationship Id="rId56" Type="http://schemas.openxmlformats.org/officeDocument/2006/relationships/slide" Target="slides/slide43.xml"/><Relationship Id="rId57" Type="http://schemas.openxmlformats.org/officeDocument/2006/relationships/slide" Target="slides/slide44.xml"/><Relationship Id="rId58" Type="http://schemas.openxmlformats.org/officeDocument/2006/relationships/slide" Target="slides/slide45.xml"/><Relationship Id="rId59" Type="http://schemas.openxmlformats.org/officeDocument/2006/relationships/slide" Target="slides/slide46.xml"/><Relationship Id="rId60" Type="http://schemas.openxmlformats.org/officeDocument/2006/relationships/slide" Target="slides/slide47.xml"/><Relationship Id="rId61" Type="http://schemas.openxmlformats.org/officeDocument/2006/relationships/slide" Target="slides/slide48.xml"/><Relationship Id="rId62" Type="http://schemas.openxmlformats.org/officeDocument/2006/relationships/slide" Target="slides/slide49.xml"/><Relationship Id="rId63" Type="http://schemas.openxmlformats.org/officeDocument/2006/relationships/slide" Target="slides/slide50.xml"/><Relationship Id="rId6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dt" idx="3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 type="ftr" idx="3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6"/>
          <p:cNvSpPr>
            <a:spLocks noGrp="1"/>
          </p:cNvSpPr>
          <p:nvPr>
            <p:ph type="sldNum" idx="3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57C86-35E9-4509-BBC1-B0AB1A76CB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8C8BE-DC2D-4958-80D4-0AC6A6182F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03B4EC-8935-44C8-9355-BAFCC97199E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B12CFA-CA6F-446A-9BAA-2DAFAAEB1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88A4198-9084-4DC1-B27D-91D9FD0D4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E9C7297-5AB3-403B-9534-561B00917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3359CC1-DA0E-4338-840C-9C73F4002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6A0341F-59B2-47EC-B0F3-788EE7B78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912D09A-F945-4945-9FFB-3F4BA56FF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46B741E-037E-4071-BFA2-A8129B046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16AC2D7-4EB6-474E-8EE3-150CF8A78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9CE6563-3ECF-4F1E-A4CA-C4ED84A0A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DC7831F-BA67-40E1-8993-3F520D0EB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7941596-7AEA-4AE2-9EAF-0ECB2C6D7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19CBC0-55B2-40E7-A0F6-6DF0730F3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64697B5-78AD-4D97-8584-BD77508DA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36C1D35-2CAE-44DE-B0CD-B3A15DEED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ADADE41-5B7E-4E3C-A694-2CB0C46B4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7EFDC51-9410-48E3-A343-AD0F6FF7E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801A83F-4C08-4C17-B974-48A571DE0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664C340-6279-4E1C-9815-F3F13ED2F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1281667-40CB-4402-BD3B-350E8E39F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9973A15-7E68-4E5D-BB53-AF79AD1BB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29270D2-2799-48F0-9406-0D95089B6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640F6F3-A97F-4F53-A2CE-4D6E775E5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293BD0-6675-46CA-8766-12EE59891C5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112180F-B5CC-45D6-9DEF-643AC5E5D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6901B6B-9E7B-477E-8880-D79CAF4CE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0C36C32-F45D-4032-881A-CD8778EF8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A584CA7-A7E4-4A0F-859E-40FF5246D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997770A-9848-48B5-8399-33F4AF682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8E2E33A-E956-4CAD-ADBE-6D007E1DF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0C3A0A1-E764-4978-9879-D54C4F302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4432966-062A-4E11-825E-A47EE7389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7484889-FAE4-42CF-BACB-351585C4B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A858857-A353-4E73-8CB9-0FBF283E6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95948F-AF5A-465E-8685-7D3AE745522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3563569-C849-47B6-AC44-EF7829930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3FE6BD6-B3B1-453F-AC9B-9197D0742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9CB57C7-D676-4F48-94EE-870B9EFFA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BEC117-0FD7-4742-9643-D6AB91360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74BAFE-E3A3-475B-AC37-67D375992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581347-9A0D-4052-8B51-DC8F38A88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9A0165-C880-4734-8836-72B9C271E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2B6667-5D93-4219-96BD-3B32B9A2D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791CD7-C4DD-4765-A831-50566F35B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C1FBAD-5727-4C46-99AF-292D30236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F2668E-E038-4D10-BC99-3FAA2A8D5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15E2C3-0795-44DD-912F-1516F54FF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F97807-4362-4333-BCC0-D55F1EDA0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F1CEE4-8215-4442-8A2F-C548FC00B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1E3A86-3B59-454F-9A71-7118C661976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4133213-7E1D-4F6E-BCEF-540E6AB11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6D1D523-54D1-4A32-932B-D7F9210DE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CADF9C6-E67C-4F8E-979C-A5EA74C99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BEAE963-3865-4191-9573-46BA726B3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806B883-1DBE-4500-B879-DC1A12902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23C546-312F-484A-AB4E-AB625A9C1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1486B3D-6398-45F4-834C-71C1FBCC3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AD597A3-C3EA-47CE-A2B5-6B202C22D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F7F23F4-7FD8-4C23-830E-2F05B44E6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E0D05F9-97F6-4793-927D-7258C38A9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7FB911D-2D15-43DC-B0FC-E65A01D60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5C1C21B-1A0D-48E9-ACBF-56EC54301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37994FD-24EA-43F4-A9E6-90BAD8B31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D061D97-1B72-40C5-BC37-97034B599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A0A285D-D7EE-4A5E-8A77-9F08C0D55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0D0A0DB-C809-4F70-A808-6CD8FF5F4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D9BB52-3D5E-4F22-9953-3C627E206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38934BC-8C01-4887-BD5D-80BAED34A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FD67A3E-F61F-47C8-823D-82D76E4BD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BEB9524-BCD0-454C-9361-6C9192CB4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155403B-B39C-47E4-890A-50EF29B1B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096A1DD-3306-4F11-9F37-4EBBAB2D4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8D67BE1-F584-4B9A-9B95-49E5BF942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EC53576-1F0C-4059-BABA-41965C78B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7B01600-3AC0-40FC-9184-85AA50675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C6C32AE-6E0A-4DDE-A1E2-85D61D513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7B062E5-FE74-4C7D-9D6C-5AC19387D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646160-37C8-4D6F-A7B4-DD1354E7F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C67A18A-9FDE-4A34-8663-D88746350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D729F16-4E92-42A2-AF86-D35B6D2B9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EC80ECA-D383-4916-9148-A09210BCF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806DEE0-A226-40AE-86A4-2F391C1D6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16B1F44-7D4F-4977-B098-B3F3F6074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97A7FCA-B4BA-4F71-8E3A-0DC54F6D9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929CE63-28A3-47CA-9C33-37471F1C7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50C3B2F-7CAD-4077-B90D-462A2433D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C5C788C-39FF-4039-9E3D-E63D56CE2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475CAAC-1106-4CE8-8ACF-B582AAEC7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5F1FE7-DF95-4A68-9DD9-9736D6C74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DD7155E-DA92-4CBF-B5E0-292B6A89C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0734AA1-33E8-47B5-B377-D7E39ACFF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8D26B9D-AD58-423B-92B8-98D34D7D9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E196F5F-9F7B-4CB4-A460-32397AC94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98DAC63-5B72-4BBC-98E5-FF24568E6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4F665C8-D176-4BC7-BDCA-824A2A3B7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845D0DB-3948-4E89-8087-FACED8A7C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FEE75B7-9830-433C-BBF1-7CDAE2F8F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C4ACED8-FC40-4F16-8783-FCADF2D0E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6B4635F-7ED4-456D-88B6-4C4455B80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B59D54-627F-44BE-8C9D-0A605BDB6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4A0F312-63B1-4D53-80AD-131938082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6062E38-7D0B-44FE-87BA-1DCE411AF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00961A3-69AD-4F02-897A-544628163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EB03E62-99E0-4459-BA93-31AA0C889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B65CEA4-A96B-46DD-A30C-FD7C16848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024820B-0FBF-48C8-80CD-5F24EE5C6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9832096-9231-4E1B-881A-97AB9F354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04C9B5A-3462-4419-A400-D399DD3D6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2D11F88-255F-4491-B98A-E1742D917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A5135C1-FC5C-419F-BBC9-8D597E74C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ABAC9D-5788-4E0E-AEC1-592D3D5B2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ACA1CE7-BAD6-491D-B0FF-17A7EEA14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8478633-B1FE-43A5-80B2-B314205E6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1563DEE-F986-416D-9CD0-9B6BAC7CD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0C555BA-CA0F-4239-BC91-F19401140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6D4B0C6-46D8-40F9-B781-C59D61BD9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9C3BEC5-E8D6-410E-B431-CA67AFF8D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3B82505-9B95-448D-9884-070C1A899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9108FEF-C171-4A0A-9C6F-773814FF2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3142586-95D4-461C-B8B9-97A205342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6A29477-1842-42E7-ADB5-277DF6A34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FD84A2-98F8-4C4D-B8BF-1841DAFB4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68A8797-34B1-4CE1-9FE1-9ED218B69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AAD96EA-C499-4B09-8314-B3851C759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86CE599-23DA-496E-89E3-C12123510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3AD8005-9E03-4910-B5BA-A7B68882E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49CF8F9-FC92-4872-87FD-C2D11A004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A3E6A67-5DCC-4A57-B7C8-B94D2A598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EE2E83D-C972-4DDD-AB58-963662BFD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5AD88FE-D65D-4100-A6CE-16BE0D015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3C7BD97-9D96-4D37-8DD4-4A0DFAD43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8F13FB0-B4D5-42F0-B190-6A16F4BC5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EE28A-1706-4DF8-9287-45F3CACB375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205BC-01AB-4457-95A6-AB8CBB46C7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CC8A9-F96E-4AE8-A9EE-D3D1A2D8C9E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2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BEBF2-F540-41AA-8575-344701F72D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2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A6650-0F54-48DC-96D3-A9AEE50E668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68BE1-7C23-4342-9E2C-2FAC702748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Łącznik prosty 6"/>
          <p:cNvSpPr/>
          <p:nvPr/>
        </p:nvSpPr>
        <p:spPr>
          <a:xfrm>
            <a:off x="0" y="1413000"/>
            <a:ext cx="9144000" cy="0"/>
          </a:xfrm>
          <a:prstGeom prst="line">
            <a:avLst/>
          </a:prstGeom>
          <a:ln w="255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2DCDC-A014-4343-A39E-8EBA4D47394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F3158-7A25-4888-B41B-1B54961741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FDBB6-556D-4078-9A87-A3AB1D007CB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CB964-9AD7-4B2F-9F1B-78BABF4C09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Łącznik prosty 6"/>
          <p:cNvSpPr/>
          <p:nvPr/>
        </p:nvSpPr>
        <p:spPr>
          <a:xfrm>
            <a:off x="0" y="1413000"/>
            <a:ext cx="9144000" cy="0"/>
          </a:xfrm>
          <a:prstGeom prst="line">
            <a:avLst/>
          </a:prstGeom>
          <a:ln w="255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BE44E-8F1A-47FE-89EC-F3695C34BD8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1E845-B606-4A71-A500-D222A9DA9C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751F9-0C3D-40F3-9300-BB1B90A8E3D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EF1D1-EB12-48F4-9DFF-BF83577F2A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6C950-5BE6-4666-BF90-1359240B851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814D9-0068-4B4E-B34A-824F243316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1698B-87FE-44A3-8CDF-E418C508DFE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75DD5-48BA-4FC9-B24B-35B091793F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5E049-384E-45BE-B80D-4EDA11B954C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05A26-3D1A-402C-8036-CFC07113DB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4220C-53F2-4B0B-8EBE-D8B9EFCCAE7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77300-E2B4-4B6D-8C7C-3F757A1B87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8" name="Picture 23" descr=""/>
          <p:cNvPicPr/>
          <p:nvPr/>
        </p:nvPicPr>
        <p:blipFill>
          <a:blip r:embed="rId1"/>
          <a:stretch/>
        </p:blipFill>
        <p:spPr>
          <a:xfrm>
            <a:off x="0" y="0"/>
            <a:ext cx="2800440" cy="1357200"/>
          </a:xfrm>
          <a:prstGeom prst="rect">
            <a:avLst/>
          </a:prstGeom>
          <a:ln w="0">
            <a:noFill/>
          </a:ln>
        </p:spPr>
      </p:pic>
      <p:pic>
        <p:nvPicPr>
          <p:cNvPr id="459" name="Picture 25" descr="UE+EFS_L-kolor"/>
          <p:cNvPicPr/>
          <p:nvPr/>
        </p:nvPicPr>
        <p:blipFill>
          <a:blip r:embed="rId2"/>
          <a:stretch/>
        </p:blipFill>
        <p:spPr>
          <a:xfrm>
            <a:off x="6659640" y="404640"/>
            <a:ext cx="2098440" cy="770040"/>
          </a:xfrm>
          <a:prstGeom prst="rect">
            <a:avLst/>
          </a:prstGeom>
          <a:ln w="0">
            <a:noFill/>
          </a:ln>
        </p:spPr>
      </p:pic>
      <p:sp>
        <p:nvSpPr>
          <p:cNvPr id="460" name="Tytuł 1"/>
          <p:cNvSpPr/>
          <p:nvPr/>
        </p:nvSpPr>
        <p:spPr>
          <a:xfrm>
            <a:off x="0" y="1214280"/>
            <a:ext cx="91440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Arial Black"/>
              </a:rPr>
              <a:t>Sytuacja i oczekiwania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Arial Black"/>
              </a:rPr>
              <a:t>pracodawców w powieci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Arial Black"/>
              </a:rPr>
              <a:t>olsztyński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1" name="Picture 9" descr=""/>
          <p:cNvPicPr/>
          <p:nvPr/>
        </p:nvPicPr>
        <p:blipFill>
          <a:blip r:embed="rId3"/>
          <a:stretch/>
        </p:blipFill>
        <p:spPr>
          <a:xfrm>
            <a:off x="3429000" y="3143160"/>
            <a:ext cx="2357280" cy="2489400"/>
          </a:xfrm>
          <a:prstGeom prst="rect">
            <a:avLst/>
          </a:prstGeom>
          <a:ln w="0">
            <a:noFill/>
          </a:ln>
        </p:spPr>
      </p:pic>
      <p:pic>
        <p:nvPicPr>
          <p:cNvPr id="462" name="Obraz 14" descr=""/>
          <p:cNvPicPr/>
          <p:nvPr/>
        </p:nvPicPr>
        <p:blipFill>
          <a:blip r:embed="rId4"/>
          <a:stretch/>
        </p:blipFill>
        <p:spPr>
          <a:xfrm>
            <a:off x="428760" y="5929200"/>
            <a:ext cx="842760" cy="596880"/>
          </a:xfrm>
          <a:prstGeom prst="rect">
            <a:avLst/>
          </a:prstGeom>
          <a:ln w="0">
            <a:noFill/>
          </a:ln>
        </p:spPr>
      </p:pic>
      <p:sp>
        <p:nvSpPr>
          <p:cNvPr id="463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13"/>
          <p:cNvSpPr/>
          <p:nvPr/>
        </p:nvSpPr>
        <p:spPr>
          <a:xfrm>
            <a:off x="1746360" y="5930640"/>
            <a:ext cx="4690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Projekt Urzędu Pracy Powiatu Olsztyńskiego </a:t>
            </a:r>
            <a:r>
              <a:rPr b="0" lang="pl-PL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„</a:t>
            </a:r>
            <a:r>
              <a:rPr b="0" lang="pl-PL" sz="1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Kwalifikacje Twoim kapitałem</a:t>
            </a:r>
            <a:r>
              <a:rPr b="0" lang="pl-PL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”</a:t>
            </a:r>
            <a:r>
              <a:rPr b="0" lang="pl-PL" sz="1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wspó</a:t>
            </a:r>
            <a:r>
              <a:rPr b="1" lang="pl-PL" sz="1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łf</a:t>
            </a:r>
            <a:r>
              <a:rPr b="0" lang="pl-PL" sz="1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inansowany przez Unię Europejską </a:t>
            </a:r>
            <a:br>
              <a:rPr sz="1000"/>
            </a:br>
            <a:r>
              <a:rPr b="0" lang="pl-PL" sz="1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w ramach Europejskiego Funduszu Społeczneg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 Box 17"/>
          <p:cNvSpPr/>
          <p:nvPr/>
        </p:nvSpPr>
        <p:spPr>
          <a:xfrm>
            <a:off x="6732720" y="4508640"/>
            <a:ext cx="1876320" cy="345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Berlin Sans FB Demi"/>
              </a:rPr>
              <a:t>Realizacja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6" name="Obraz 11" descr="BioStat - Logo"/>
          <p:cNvPicPr/>
          <p:nvPr/>
        </p:nvPicPr>
        <p:blipFill>
          <a:blip r:embed="rId5"/>
          <a:stretch/>
        </p:blipFill>
        <p:spPr>
          <a:xfrm>
            <a:off x="6804000" y="4869000"/>
            <a:ext cx="1486080" cy="253800"/>
          </a:xfrm>
          <a:prstGeom prst="rect">
            <a:avLst/>
          </a:prstGeom>
          <a:ln w="0">
            <a:noFill/>
          </a:ln>
        </p:spPr>
      </p:pic>
      <p:sp>
        <p:nvSpPr>
          <p:cNvPr id="467" name="Text Box 20"/>
          <p:cNvSpPr/>
          <p:nvPr/>
        </p:nvSpPr>
        <p:spPr>
          <a:xfrm>
            <a:off x="6732720" y="5157720"/>
            <a:ext cx="2000160" cy="316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Berlin Sans FB Demi"/>
              </a:rPr>
              <a:t>www.bio</a:t>
            </a:r>
            <a:r>
              <a:rPr b="0" lang="pl-PL" sz="1200" spc="-1" strike="noStrike">
                <a:solidFill>
                  <a:srgbClr val="c00000"/>
                </a:solidFill>
                <a:latin typeface="Berlin Sans FB Demi"/>
              </a:rPr>
              <a:t>s</a:t>
            </a:r>
            <a:r>
              <a:rPr b="0" lang="pl-PL" sz="1200" spc="-1" strike="noStrike">
                <a:solidFill>
                  <a:srgbClr val="000000"/>
                </a:solidFill>
                <a:latin typeface="Berlin Sans FB Demi"/>
              </a:rPr>
              <a:t>tat.com.p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4280E-296A-40D5-A398-F8E59FF1CF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ole tekstowe 6"/>
          <p:cNvSpPr/>
          <p:nvPr/>
        </p:nvSpPr>
        <p:spPr>
          <a:xfrm>
            <a:off x="1619280" y="1989000"/>
            <a:ext cx="61927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800" spc="-1" strike="noStrike">
                <a:solidFill>
                  <a:srgbClr val="1f497d"/>
                </a:solidFill>
                <a:latin typeface="Arial"/>
              </a:rPr>
              <a:t>Funkcjonowanie badanych przedsiębiorstw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Arial"/>
              </a:rPr>
              <a:t>Kondycja przedsiębiorstw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891D8-F31D-4920-AF27-0FE8EE7E53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ole tekstowe 6"/>
          <p:cNvSpPr/>
          <p:nvPr/>
        </p:nvSpPr>
        <p:spPr>
          <a:xfrm>
            <a:off x="1000080" y="1714680"/>
            <a:ext cx="7358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Największa liczba badanych – 40,9% – wskazała na  średni poziom kondycji przedsiębiorstwa (ani dobra, ani zła). </a:t>
            </a:r>
            <a:r>
              <a:rPr b="1" lang="pl-PL" sz="1800" spc="-1" strike="noStrike">
                <a:solidFill>
                  <a:srgbClr val="1f497d"/>
                </a:solidFill>
                <a:latin typeface="Arial"/>
              </a:rPr>
              <a:t>Ponad 37% przedsiębiorców określiło kondycję swojej firmy jako dobrą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9" name="Picture 2" descr=""/>
          <p:cNvPicPr/>
          <p:nvPr/>
        </p:nvPicPr>
        <p:blipFill>
          <a:blip r:embed="rId1"/>
          <a:stretch/>
        </p:blipFill>
        <p:spPr>
          <a:xfrm>
            <a:off x="1357200" y="3143160"/>
            <a:ext cx="7000920" cy="31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Arial"/>
              </a:rPr>
              <a:t>Prognozowany popyt na produkty/usługi przedsiębiorstw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688D4-0FC0-40D7-8ED1-823628E385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ole tekstowe 6"/>
          <p:cNvSpPr/>
          <p:nvPr/>
        </p:nvSpPr>
        <p:spPr>
          <a:xfrm>
            <a:off x="1000080" y="1714680"/>
            <a:ext cx="735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Największy odsetek badanych (29,2%) uznał, iż </a:t>
            </a:r>
            <a:r>
              <a:rPr b="1" lang="pl-PL" sz="1800" spc="-1" strike="noStrike">
                <a:solidFill>
                  <a:srgbClr val="1f497d"/>
                </a:solidFill>
                <a:latin typeface="Arial"/>
              </a:rPr>
              <a:t>popyt w ich firmie w przeciągu najbliższych 12 miesięcy nie ulegnie zmiani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3" name=""/>
          <p:cNvGraphicFramePr/>
          <p:nvPr/>
        </p:nvGraphicFramePr>
        <p:xfrm>
          <a:off x="1428840" y="2786040"/>
          <a:ext cx="6786360" cy="2855880"/>
        </p:xfrm>
        <a:graphic>
          <a:graphicData uri="http://schemas.openxmlformats.org/drawingml/2006/table">
            <a:tbl>
              <a:tblPr/>
              <a:tblGrid>
                <a:gridCol w="5286240"/>
                <a:gridCol w="1500120"/>
              </a:tblGrid>
              <a:tr h="4446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dpowiedz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iczba wskaza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%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</a:tr>
              <a:tr h="344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ędzie rósł szybciej niż tera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,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ędzie rósł w tym samym tempi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3,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ędzie rósł wolniej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,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1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ędzie taki sam jak tera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9,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ędzie niższ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,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rudno powiedzieć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,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gół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,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Arial"/>
              </a:rPr>
              <a:t>Wpływ recesji gospodarczej na funkcjonowanie przedsiębiorst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C3144-221F-4F36-8DC9-C6578426CC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ole tekstowe 6"/>
          <p:cNvSpPr/>
          <p:nvPr/>
        </p:nvSpPr>
        <p:spPr>
          <a:xfrm>
            <a:off x="1000080" y="1714680"/>
            <a:ext cx="735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451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1f497d"/>
                </a:solidFill>
                <a:latin typeface="Arial"/>
              </a:rPr>
              <a:t>Około 47% respondentów uznało, iż recesja gospodarcza miała wpływ na funkcjonowanie ich przedsiębiorstw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7" name="Picture 2" descr=""/>
          <p:cNvPicPr/>
          <p:nvPr/>
        </p:nvPicPr>
        <p:blipFill>
          <a:blip r:embed="rId1"/>
          <a:stretch/>
        </p:blipFill>
        <p:spPr>
          <a:xfrm>
            <a:off x="1143000" y="2714760"/>
            <a:ext cx="7292880" cy="33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Arial"/>
              </a:rPr>
              <a:t>Czynniki wpływające na rozwój przedsiębiorst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6E783-2691-4818-A64D-7B2BE53E40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ole tekstowe 6"/>
          <p:cNvSpPr/>
          <p:nvPr/>
        </p:nvSpPr>
        <p:spPr>
          <a:xfrm>
            <a:off x="1000080" y="1714680"/>
            <a:ext cx="735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Najliczniejsza grupa respondentów uznała, iż </a:t>
            </a:r>
            <a:r>
              <a:rPr b="1" lang="pl-PL" sz="1800" spc="-1" strike="noStrike">
                <a:solidFill>
                  <a:srgbClr val="1f497d"/>
                </a:solidFill>
                <a:latin typeface="Arial"/>
              </a:rPr>
              <a:t>czynnik finansowy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umożliwiłby rozwój ich przedsiębiorstwa. Niemalże równie istotny wpływ na rozwój firmy, zdaniem respondentów mają </a:t>
            </a:r>
            <a:r>
              <a:rPr b="1" lang="pl-PL" sz="1800" spc="-1" strike="noStrike">
                <a:solidFill>
                  <a:srgbClr val="1f497d"/>
                </a:solidFill>
                <a:latin typeface="Arial"/>
              </a:rPr>
              <a:t>czynniki gospodarcz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1" name="Picture 2" descr=""/>
          <p:cNvPicPr/>
          <p:nvPr/>
        </p:nvPicPr>
        <p:blipFill>
          <a:blip r:embed="rId1"/>
          <a:stretch/>
        </p:blipFill>
        <p:spPr>
          <a:xfrm>
            <a:off x="1500120" y="3071880"/>
            <a:ext cx="6643800" cy="32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Arial"/>
              </a:rPr>
              <a:t>Bariery w rozwoju przedsiębiorst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140B5-429E-4776-99AA-06BEA4F1FE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ole tekstowe 6"/>
          <p:cNvSpPr/>
          <p:nvPr/>
        </p:nvSpPr>
        <p:spPr>
          <a:xfrm>
            <a:off x="1143000" y="2143080"/>
            <a:ext cx="6572160" cy="278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1f497d"/>
                </a:solidFill>
                <a:latin typeface="Arial"/>
              </a:rPr>
              <a:t>Najpoważniejsze przeszkody w procesie rozwoju, jakie wskazują pracodawcy t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1f497d"/>
                </a:solidFill>
                <a:latin typeface="Arial"/>
              </a:rPr>
              <a:t>Bariera finansowa, czyli brak środków na podjęcie konkretnych działań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1f497d"/>
                </a:solidFill>
                <a:latin typeface="Arial"/>
              </a:rPr>
              <a:t>Biurokracja ograniczająca rozwój podmiotów gospodarczyc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1f497d"/>
                </a:solidFill>
                <a:latin typeface="Arial"/>
              </a:rPr>
              <a:t>Zbyt mała ilość klientów i duża konkurencja na rynk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Arial"/>
              </a:rPr>
              <a:t>Zatrudnienie nowych pracowników w ciągu ostatnich 24 miesię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8F116-E39E-4AB1-8F62-E426835B89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ole tekstowe 6"/>
          <p:cNvSpPr/>
          <p:nvPr/>
        </p:nvSpPr>
        <p:spPr>
          <a:xfrm>
            <a:off x="1000080" y="5214960"/>
            <a:ext cx="735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 okresie ostatnich dwóch lat poprzedzających badanie, </a:t>
            </a:r>
            <a:r>
              <a:rPr b="1" lang="pl-PL" sz="1800" spc="-1" strike="noStrike">
                <a:solidFill>
                  <a:srgbClr val="1f497d"/>
                </a:solidFill>
                <a:latin typeface="Arial"/>
              </a:rPr>
              <a:t>nowych pracowników przyjęło 43,0% objętych badaniem firm.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Natomiast 57,0% respondentów odpowiedziało, że w ciągu ostatnich dwóch lat nie przyjmowali pracownikó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Picture 2" descr=""/>
          <p:cNvPicPr/>
          <p:nvPr/>
        </p:nvPicPr>
        <p:blipFill>
          <a:blip r:embed="rId1"/>
          <a:stretch/>
        </p:blipFill>
        <p:spPr>
          <a:xfrm>
            <a:off x="1428840" y="1714680"/>
            <a:ext cx="675936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Arial"/>
              </a:rPr>
              <a:t>Zatrudnienie nowych pracowników w ciągu ostatnich 24 miesię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463D1-2F3C-4AB3-A904-116AA578E0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ole tekstowe 6"/>
          <p:cNvSpPr/>
          <p:nvPr/>
        </p:nvSpPr>
        <p:spPr>
          <a:xfrm>
            <a:off x="971640" y="1916280"/>
            <a:ext cx="7358040" cy="30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Największy odsetek badanych przedsiębiorców przyjęło nowych pracowników na zasadzie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1800" spc="-1" strike="noStrike">
                <a:solidFill>
                  <a:srgbClr val="1f497d"/>
                </a:solidFill>
                <a:latin typeface="Arial"/>
              </a:rPr>
              <a:t>umowy o pracę na czas określony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stanowisko takie zadeklarowało 53,0% badanych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35,0% respondentów  zatrudniło nowych pracowników w oparciu o </a:t>
            </a:r>
            <a:r>
              <a:rPr b="1" lang="pl-PL" sz="1800" spc="-1" strike="noStrike">
                <a:solidFill>
                  <a:srgbClr val="1f497d"/>
                </a:solidFill>
                <a:latin typeface="Arial"/>
              </a:rPr>
              <a:t>umowę na czas nieokreślony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1f497d"/>
                </a:solidFill>
                <a:latin typeface="Arial"/>
              </a:rPr>
              <a:t>Ponad 56% respondentów uważa, że zatrudnieni przez nich pracownicy posiadali wykształcenie adekwatne do wykonywanego przez nich zawod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Arial"/>
              </a:rPr>
              <a:t>Zatrudnienie nowych pracowników w ciągu ostatnich 24 miesię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50F5E-FC52-4ED1-8672-CF7B106E0B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ole tekstowe 6"/>
          <p:cNvSpPr/>
          <p:nvPr/>
        </p:nvSpPr>
        <p:spPr>
          <a:xfrm>
            <a:off x="714240" y="2000160"/>
            <a:ext cx="7358040" cy="39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 grupie badanych 500 przedsiębiorstw, w ciągu ostatnich dwóch lat zatrudnion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22 </a:t>
            </a:r>
            <a:r>
              <a:rPr b="1" lang="pl-PL" sz="1800" spc="-1" strike="noStrike">
                <a:solidFill>
                  <a:srgbClr val="1f497d"/>
                </a:solidFill>
                <a:latin typeface="Arial"/>
              </a:rPr>
              <a:t>pracowników kadry zarządzającej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Na </a:t>
            </a:r>
            <a:r>
              <a:rPr b="1" lang="pl-PL" sz="1800" spc="-1" strike="noStrike">
                <a:solidFill>
                  <a:srgbClr val="1f497d"/>
                </a:solidFill>
                <a:latin typeface="Arial"/>
              </a:rPr>
              <a:t>stanowiska specjalistyczne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rzyjęto 185 osó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Jako </a:t>
            </a:r>
            <a:r>
              <a:rPr b="1" lang="pl-PL" sz="1800" spc="-1" strike="noStrike">
                <a:solidFill>
                  <a:srgbClr val="1f497d"/>
                </a:solidFill>
                <a:latin typeface="Arial"/>
              </a:rPr>
              <a:t>średni personel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zatrudniono 167 osób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Zdecydowanie liczniejszą grupę stanowili </a:t>
            </a:r>
            <a:r>
              <a:rPr b="1" lang="pl-PL" sz="1800" spc="-1" strike="noStrike">
                <a:solidFill>
                  <a:srgbClr val="1f497d"/>
                </a:solidFill>
                <a:latin typeface="Arial"/>
              </a:rPr>
              <a:t>pracownicy usług osobistych i sprzedawcy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– 301 osó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1f497d"/>
                </a:solidFill>
                <a:latin typeface="Arial"/>
              </a:rPr>
              <a:t>Z przeprowadzonej ankiety wynika, że większość nowoprzyjętych pracowników (875 osób) stanowiły osoby wykonujące prace pros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Arial"/>
              </a:rPr>
              <a:t>Zatrudnienie nowych pracowników w ciągu ostatnich 24 miesię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694E3-C488-4379-9E26-F66F392015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ole tekstowe 6"/>
          <p:cNvSpPr/>
          <p:nvPr/>
        </p:nvSpPr>
        <p:spPr>
          <a:xfrm>
            <a:off x="714240" y="1857240"/>
            <a:ext cx="735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Największy odsetek nowo zatrudnionych pracowników stanowiły osoby w przedziale wiekowym 25-34 la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8" name="Picture 2" descr=""/>
          <p:cNvPicPr/>
          <p:nvPr/>
        </p:nvPicPr>
        <p:blipFill>
          <a:blip r:embed="rId1"/>
          <a:stretch/>
        </p:blipFill>
        <p:spPr>
          <a:xfrm>
            <a:off x="1071720" y="2749680"/>
            <a:ext cx="7143480" cy="34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1f497d"/>
                </a:solidFill>
                <a:latin typeface="Arial"/>
              </a:rPr>
              <a:t>Cel badan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457200" y="1600200"/>
            <a:ext cx="8075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Badanie lokalnego rynku pracy na terenie powiatu olsztyńskiego, miało na celu </a:t>
            </a:r>
            <a:r>
              <a:rPr b="1" lang="pl-PL" sz="1800" spc="-1" strike="noStrike">
                <a:solidFill>
                  <a:srgbClr val="1f497d"/>
                </a:solidFill>
                <a:latin typeface="Arial"/>
                <a:ea typeface="Arial"/>
              </a:rPr>
              <a:t>zdiagnozowanie zapotrzebowania pracodawców na kwalifikacje i umiejętności zawodowe kandydatów do pracy  oraz usługi i instrumenty rynku pracy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Cele szczegółowe projektu to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Analiza sytuacji na lokalnym rynku pracy, jego dynamiki oraz kierunków zmia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Określenie  popytu na pracę w odniesieniu do ilości tworzonych przez pracodawców miejsc pracy posiadanych ofert pracy oraz pożądanych kwalifikacji i umiejętności zawodowych kandydatów do pracy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Określenie zapotrzebowania pracodawców na usługi i instrumenty rynku pracy realizowane przez urząd</a:t>
            </a:r>
            <a:r>
              <a:rPr b="0" lang="pl-PL" sz="1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Symbol zastępczy numeru slajdu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4E4B1-B31C-4357-B795-922C26AEC9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Arial"/>
              </a:rPr>
              <a:t>Zatrudnienie nowych pracowników w ciągu ostatnich 24 miesię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44CE7-9BA6-40F6-957C-704CECB6D3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ole tekstowe 6"/>
          <p:cNvSpPr/>
          <p:nvPr/>
        </p:nvSpPr>
        <p:spPr>
          <a:xfrm>
            <a:off x="684360" y="1916280"/>
            <a:ext cx="7991280" cy="15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onad 40% pracodawców zatrudniło w ciągu ostatnich dwóch lat absolwentów szkół, osoby uczące się oraz osoby powyżej 50 roku życi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Na drugim biegunie znajdują się osoby niepełnosprawne, które w ostatnich dwóch latach zatrudniło tylko nieco ponad 8% pracodawcó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2" name="Picture 2" descr=""/>
          <p:cNvPicPr/>
          <p:nvPr/>
        </p:nvPicPr>
        <p:blipFill>
          <a:blip r:embed="rId1"/>
          <a:stretch/>
        </p:blipFill>
        <p:spPr>
          <a:xfrm>
            <a:off x="1071720" y="3357720"/>
            <a:ext cx="7143480" cy="30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Arial"/>
              </a:rPr>
              <a:t>Zatrudnienie nowych pracowników w ciągu ostatnich 24 miesię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5619F-84F6-454F-9B9B-9F0CF47A79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ole tekstowe 6"/>
          <p:cNvSpPr/>
          <p:nvPr/>
        </p:nvSpPr>
        <p:spPr>
          <a:xfrm>
            <a:off x="714240" y="1857240"/>
            <a:ext cx="7358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Największy odsetek zatrudnionych osób stanowiły osoby z wykształceniem </a:t>
            </a:r>
            <a:r>
              <a:rPr b="1" lang="pl-PL" sz="1800" spc="-1" strike="noStrike">
                <a:solidFill>
                  <a:srgbClr val="1f497d"/>
                </a:solidFill>
                <a:latin typeface="Arial"/>
              </a:rPr>
              <a:t>zasadniczym zawodowym oraz średnim zawodowym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6" name="Picture 2" descr=""/>
          <p:cNvPicPr/>
          <p:nvPr/>
        </p:nvPicPr>
        <p:blipFill>
          <a:blip r:embed="rId1"/>
          <a:stretch/>
        </p:blipFill>
        <p:spPr>
          <a:xfrm>
            <a:off x="1187280" y="2852640"/>
            <a:ext cx="6929640" cy="343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Arial"/>
              </a:rPr>
              <a:t>Skala zwolnień pracowników w ciągu ostatnich 24 miesię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2AC39-876B-4BFF-BBB3-5E945B9EE0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ole tekstowe 7"/>
          <p:cNvSpPr/>
          <p:nvPr/>
        </p:nvSpPr>
        <p:spPr>
          <a:xfrm>
            <a:off x="785880" y="1643040"/>
            <a:ext cx="757224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451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1f497d"/>
                </a:solidFill>
                <a:latin typeface="Arial"/>
              </a:rPr>
              <a:t>77 pracodawców zwalniało pracowników w ciągu ostatnich dwóch lat. Łącznie zwolnili oni 403 osob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65% osób zwolnionych w ciągu ostatnich dwóch lat to właśnie pracownicy stanowisk przy pracach prostych, usług osobistych i sprzedawc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Niemal dwukrotnie częściej dochodzi do zwalniania mężczyzn niż kobiet, co może wiązać się z większą ruchliwością mężczyzn na rynku prac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Najwięcej firm zwalniało osoby w przedziale wiekowym między 35 a 44 rokiem życi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Zdecydowana większość spośród zwolnionych z pracy, tj. 52% to osoby powyżej 50 roku życi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Najrzadziej zwalnianymi przez pracodawców były osoby niepełnosprawne oraz kobiety, które urodziły dziecko, łącznie obie grupy stanowiły 8,6%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45DCF-4A7B-4EC7-886A-17425873D5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ole tekstowe 6"/>
          <p:cNvSpPr/>
          <p:nvPr/>
        </p:nvSpPr>
        <p:spPr>
          <a:xfrm>
            <a:off x="785880" y="1989000"/>
            <a:ext cx="73580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800" spc="-1" strike="noStrike">
                <a:solidFill>
                  <a:srgbClr val="1f497d"/>
                </a:solidFill>
                <a:latin typeface="Arial"/>
              </a:rPr>
              <a:t>Ewaluacja potrzeb szkoleniowych </a:t>
            </a:r>
            <a:br>
              <a:rPr sz="4800"/>
            </a:br>
            <a:r>
              <a:rPr b="0" lang="pl-PL" sz="4800" spc="-1" strike="noStrike">
                <a:solidFill>
                  <a:srgbClr val="1f497d"/>
                </a:solidFill>
                <a:latin typeface="Arial"/>
              </a:rPr>
              <a:t>w badanych przedsiębiorstwach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Arial"/>
              </a:rPr>
              <a:t>Struktura wykształcenia pracownikó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B96F7-DD37-4214-A2A1-F74C3E0AC0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ole tekstowe 6"/>
          <p:cNvSpPr/>
          <p:nvPr/>
        </p:nvSpPr>
        <p:spPr>
          <a:xfrm>
            <a:off x="785880" y="1857240"/>
            <a:ext cx="735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Nieco ponad 40% przedstawicieli badanych przedsiębiorstw z powiatu olsztyńskiego wskazało, że dominującym wykształceniem wśród ich pracowników jest </a:t>
            </a:r>
            <a:r>
              <a:rPr b="1" lang="pl-PL" sz="1800" spc="-1" strike="noStrike">
                <a:solidFill>
                  <a:srgbClr val="1f497d"/>
                </a:solidFill>
                <a:latin typeface="Arial"/>
              </a:rPr>
              <a:t>wykształcenie średnie ogólnokształcą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5" name="Picture 2" descr=""/>
          <p:cNvPicPr/>
          <p:nvPr/>
        </p:nvPicPr>
        <p:blipFill>
          <a:blip r:embed="rId1"/>
          <a:stretch/>
        </p:blipFill>
        <p:spPr>
          <a:xfrm>
            <a:off x="1214280" y="3214800"/>
            <a:ext cx="7047000" cy="29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Arial"/>
              </a:rPr>
              <a:t>Poziom zadowolenia z wykształcenia pracownikó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68BE3-AA98-4232-B76B-3A84BF998D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ole tekstowe 6"/>
          <p:cNvSpPr/>
          <p:nvPr/>
        </p:nvSpPr>
        <p:spPr>
          <a:xfrm>
            <a:off x="857160" y="5286240"/>
            <a:ext cx="735804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Zdecydowana większość badanych odpowiedziała, że </a:t>
            </a:r>
            <a:r>
              <a:rPr b="1" lang="pl-PL" sz="1800" spc="-1" strike="noStrike">
                <a:solidFill>
                  <a:srgbClr val="1f497d"/>
                </a:solidFill>
                <a:latin typeface="Arial"/>
              </a:rPr>
              <a:t>jest zadowolona z wykształcenia i umiejętności swoich pracowników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9" name="Picture 2" descr=""/>
          <p:cNvPicPr/>
          <p:nvPr/>
        </p:nvPicPr>
        <p:blipFill>
          <a:blip r:embed="rId1"/>
          <a:stretch/>
        </p:blipFill>
        <p:spPr>
          <a:xfrm>
            <a:off x="1228680" y="1785960"/>
            <a:ext cx="693252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Arial"/>
              </a:rPr>
              <a:t>Zgodność wykształcenia pracowników </a:t>
            </a:r>
            <a:br>
              <a:rPr sz="3200"/>
            </a:br>
            <a:r>
              <a:rPr b="0" lang="pl-PL" sz="3200" spc="-1" strike="noStrike">
                <a:solidFill>
                  <a:srgbClr val="1f497d"/>
                </a:solidFill>
                <a:latin typeface="Arial"/>
              </a:rPr>
              <a:t>z wykonywanym zawod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29EA6-AB98-438B-8EF8-292EF59F34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ole tekstowe 6"/>
          <p:cNvSpPr/>
          <p:nvPr/>
        </p:nvSpPr>
        <p:spPr>
          <a:xfrm>
            <a:off x="857160" y="5286240"/>
            <a:ext cx="735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rawie 60% przedsiębiorców wskazało, że pracownicy wykonują pracę zgodną z ich zawod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3" name="Picture 3" descr=""/>
          <p:cNvPicPr/>
          <p:nvPr/>
        </p:nvPicPr>
        <p:blipFill>
          <a:blip r:embed="rId1"/>
          <a:stretch/>
        </p:blipFill>
        <p:spPr>
          <a:xfrm>
            <a:off x="1214280" y="1928880"/>
            <a:ext cx="666936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Arial"/>
              </a:rPr>
              <a:t>Zatrudnianie osób w szczególnej sytuacji </a:t>
            </a:r>
            <a:br>
              <a:rPr sz="3200"/>
            </a:br>
            <a:r>
              <a:rPr b="0" lang="pl-PL" sz="3200" spc="-1" strike="noStrike">
                <a:solidFill>
                  <a:srgbClr val="1f497d"/>
                </a:solidFill>
                <a:latin typeface="Arial"/>
              </a:rPr>
              <a:t>na rynku pra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4D549-F90F-4ADF-BBAF-324F5E2D41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ole tekstowe 6"/>
          <p:cNvSpPr/>
          <p:nvPr/>
        </p:nvSpPr>
        <p:spPr>
          <a:xfrm>
            <a:off x="857160" y="2214720"/>
            <a:ext cx="7358040" cy="25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rawie połowa pracodawców potwierdziła, że zatrudnia </a:t>
            </a:r>
            <a:r>
              <a:rPr b="1" lang="pl-PL" sz="1800" spc="-1" strike="noStrike">
                <a:solidFill>
                  <a:srgbClr val="1f497d"/>
                </a:solidFill>
                <a:latin typeface="Arial"/>
              </a:rPr>
              <a:t>pracowników powyżej 50 roku życ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37% badanych oferuje pracę </a:t>
            </a:r>
            <a:r>
              <a:rPr b="1" lang="pl-PL" sz="1800" spc="-1" strike="noStrike">
                <a:solidFill>
                  <a:srgbClr val="1f497d"/>
                </a:solidFill>
                <a:latin typeface="Arial"/>
              </a:rPr>
              <a:t>kobietom po urodzeniu dzieck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1f497d"/>
                </a:solidFill>
                <a:latin typeface="Arial"/>
              </a:rPr>
              <a:t>Absolwenci,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którzy ukończyli szkołę w ciągu ostatnich dwóch lat  oraz </a:t>
            </a:r>
            <a:r>
              <a:rPr b="1" lang="pl-PL" sz="1800" spc="-1" strike="noStrike">
                <a:solidFill>
                  <a:srgbClr val="1f497d"/>
                </a:solidFill>
                <a:latin typeface="Arial"/>
              </a:rPr>
              <a:t>uczniowie i studenci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są pracownikami prawie co trzeciej badanej firm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1f497d"/>
                </a:solidFill>
                <a:latin typeface="Arial"/>
              </a:rPr>
              <a:t>Zainteresowanie kształceniem pracowników/podnoszeniem ich kwalifikacji poprzez szkoleni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1352C-744A-41E3-AE81-FC54F3320E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9" name="Picture 2" descr=""/>
          <p:cNvPicPr/>
          <p:nvPr/>
        </p:nvPicPr>
        <p:blipFill>
          <a:blip r:embed="rId1"/>
          <a:stretch/>
        </p:blipFill>
        <p:spPr>
          <a:xfrm>
            <a:off x="1100160" y="2071800"/>
            <a:ext cx="7089840" cy="3214440"/>
          </a:xfrm>
          <a:prstGeom prst="rect">
            <a:avLst/>
          </a:prstGeom>
          <a:ln w="0">
            <a:noFill/>
          </a:ln>
        </p:spPr>
      </p:pic>
      <p:sp>
        <p:nvSpPr>
          <p:cNvPr id="560" name="pole tekstowe 7"/>
          <p:cNvSpPr/>
          <p:nvPr/>
        </p:nvSpPr>
        <p:spPr>
          <a:xfrm>
            <a:off x="714240" y="5572080"/>
            <a:ext cx="757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451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1f497d"/>
                </a:solidFill>
                <a:latin typeface="Arial"/>
              </a:rPr>
              <a:t>Prawie połowa badanych wyraża zainteresowanie podnoszeniem kwalifikacji swoich pracowników poprzez szkolen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Arial"/>
              </a:rPr>
              <a:t>Skala dotychczasowych szkoleń pracowniczy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94FF6-DE0B-432C-A29D-CFCDD8DFF0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Picture 2" descr=""/>
          <p:cNvPicPr/>
          <p:nvPr/>
        </p:nvPicPr>
        <p:blipFill>
          <a:blip r:embed="rId1"/>
          <a:stretch/>
        </p:blipFill>
        <p:spPr>
          <a:xfrm>
            <a:off x="857160" y="1785960"/>
            <a:ext cx="7286760" cy="3278160"/>
          </a:xfrm>
          <a:prstGeom prst="rect">
            <a:avLst/>
          </a:prstGeom>
          <a:ln w="0">
            <a:noFill/>
          </a:ln>
        </p:spPr>
      </p:pic>
      <p:sp>
        <p:nvSpPr>
          <p:cNvPr id="564" name="pole tekstowe 7"/>
          <p:cNvSpPr/>
          <p:nvPr/>
        </p:nvSpPr>
        <p:spPr>
          <a:xfrm>
            <a:off x="714240" y="5286240"/>
            <a:ext cx="7572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śród tematyki, dotychczas organizowanych szkoleń, dominowały </a:t>
            </a:r>
            <a:r>
              <a:rPr b="1" lang="pl-PL" sz="1800" spc="-1" strike="noStrike">
                <a:solidFill>
                  <a:srgbClr val="1f497d"/>
                </a:solidFill>
                <a:latin typeface="Arial"/>
              </a:rPr>
              <a:t>szkolenia BHP, szkolenia z zakresu sprzedaży i obsługi klienta, administracyjno-biurowe oraz szkolenia zawodowe i specjalistycz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1f497d"/>
                </a:solidFill>
                <a:latin typeface="Arial"/>
              </a:rPr>
              <a:t>Metodologia badan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78552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Badanie zostało zrealizowane w okresie od października do listopada 2010r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1f497d"/>
                </a:solidFill>
                <a:latin typeface="Arial"/>
                <a:ea typeface="Arial"/>
              </a:rPr>
              <a:t>Techniki i narzędzia badawcz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Analiza danych zastanych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Wywiady kwestionariuszowe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z przedstawicielami 500 przedsiębiorstw z powiatu olsztyńskiego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Indywidualny wywiad pogłębiony (IDI)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z przedstawicielami 30 przedsiębiorstw z powiatu olsztyńskiego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Symbol zastępczy numeru slajdu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CF424-7F56-44BE-A71F-85C3CCC955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81BA1-D04A-43AD-B85F-AD7C5851E6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ole tekstowe 6"/>
          <p:cNvSpPr/>
          <p:nvPr/>
        </p:nvSpPr>
        <p:spPr>
          <a:xfrm>
            <a:off x="1428840" y="1989000"/>
            <a:ext cx="6643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800" spc="-1" strike="noStrike">
                <a:solidFill>
                  <a:srgbClr val="1f497d"/>
                </a:solidFill>
                <a:latin typeface="Arial"/>
              </a:rPr>
              <a:t>Plany przedsiębiorców dotyczące zatrudnieni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Arial"/>
              </a:rPr>
              <a:t>Ocena lokalnego rynku pracy pod kątem dostępności pracownikó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7CA4F-F0A7-4984-A0D7-B7110E1D21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ole tekstowe 7"/>
          <p:cNvSpPr/>
          <p:nvPr/>
        </p:nvSpPr>
        <p:spPr>
          <a:xfrm>
            <a:off x="642960" y="1717560"/>
            <a:ext cx="7572240" cy="40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45% przedsiębiorców z powiatu olsztyńskiego wskazało na brak trudności z dostępnością pracowników na lokalnym rynku prac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Trudności w tym zakresie dostrzega łącznie 29,7% badany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Najmniejsze problemy ze znalezieniem nowych pracowników mają przedsiębiorstwa związane z </a:t>
            </a:r>
            <a:r>
              <a:rPr b="1" lang="pl-PL" sz="1800" spc="-1" strike="noStrike">
                <a:solidFill>
                  <a:srgbClr val="1f497d"/>
                </a:solidFill>
                <a:latin typeface="Arial"/>
              </a:rPr>
              <a:t>nieruchomościami, organizacje i stowarzyszenia oraz przedsiębiorstwa z branży finansowej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Największe trudności w znalezieniu nowych pracowników pojawiają się w przedsiębiorstwach z </a:t>
            </a:r>
            <a:r>
              <a:rPr b="1" lang="pl-PL" sz="1800" spc="-1" strike="noStrike">
                <a:solidFill>
                  <a:srgbClr val="1f497d"/>
                </a:solidFill>
                <a:latin typeface="Arial"/>
              </a:rPr>
              <a:t>branży motoryzacyjnej oraz w jednostkach służby zdrowia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Arial"/>
              </a:rPr>
              <a:t>Zainteresowanie zatrudnieniem pracowników w ciągu kolejnych 24 miesię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D3654-B1A4-48FE-B9B5-6A3B072BC7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ole tekstowe 7"/>
          <p:cNvSpPr/>
          <p:nvPr/>
        </p:nvSpPr>
        <p:spPr>
          <a:xfrm>
            <a:off x="857160" y="5429160"/>
            <a:ext cx="757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Około 19% objętych badaniem osób stwierdziło, iż planuje w okresie kolejnych dwóch lat przyjąć nowych pracownikó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3" name="Picture 2" descr=""/>
          <p:cNvPicPr/>
          <p:nvPr/>
        </p:nvPicPr>
        <p:blipFill>
          <a:blip r:embed="rId1"/>
          <a:stretch/>
        </p:blipFill>
        <p:spPr>
          <a:xfrm>
            <a:off x="1214280" y="1785960"/>
            <a:ext cx="697896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Arial"/>
              </a:rPr>
              <a:t>Ocena lokalnego rynku pracy pod kątem dostępności pracownikó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A39E3-EAC8-48FA-A40A-421572FCD3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ole tekstowe 7"/>
          <p:cNvSpPr/>
          <p:nvPr/>
        </p:nvSpPr>
        <p:spPr>
          <a:xfrm>
            <a:off x="642960" y="2500200"/>
            <a:ext cx="77454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50000"/>
              </a:lnSpc>
              <a:spcBef>
                <a:spcPts val="499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1f497d"/>
                </a:solidFill>
                <a:latin typeface="Arial"/>
              </a:rPr>
              <a:t>Badani przedsiębiorcy z terenu powiatu olsztyńskiego </a:t>
            </a:r>
            <a:br>
              <a:rPr sz="2000"/>
            </a:br>
            <a:r>
              <a:rPr b="1" lang="pl-PL" sz="2000" spc="-1" strike="noStrike">
                <a:solidFill>
                  <a:srgbClr val="1f497d"/>
                </a:solidFill>
                <a:latin typeface="Arial"/>
              </a:rPr>
              <a:t>w większości deklarują, że zatrudniliby więcej pracowników mając wsparcie lokalnych instytucji rynku prac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Arial"/>
              </a:rPr>
              <a:t>Zapotrzebowanie na pracownikó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1E67B-ACA3-4101-9178-242F50E2B7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ole tekstowe 7"/>
          <p:cNvSpPr/>
          <p:nvPr/>
        </p:nvSpPr>
        <p:spPr>
          <a:xfrm>
            <a:off x="500040" y="2071800"/>
            <a:ext cx="7572240" cy="24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racodawcy, którzy wzięli udział w badaniu najczęściej poszukują pracowników na stanowiska związane z działalnością gastronomiczną, tj. </a:t>
            </a:r>
            <a:r>
              <a:rPr b="1" lang="pl-PL" sz="1800" spc="-1" strike="noStrike">
                <a:solidFill>
                  <a:srgbClr val="1f497d"/>
                </a:solidFill>
                <a:latin typeface="Arial"/>
              </a:rPr>
              <a:t>kelnera, barmana, pomoc kuchenną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itp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śród respondentów pojawiła się dość znaczna grupa właścicieli przedsiębiorstw, którzy obecnie poszukują do pracy </a:t>
            </a:r>
            <a:r>
              <a:rPr b="1" lang="pl-PL" sz="1800" spc="-1" strike="noStrike">
                <a:solidFill>
                  <a:srgbClr val="1f497d"/>
                </a:solidFill>
                <a:latin typeface="Arial"/>
              </a:rPr>
              <a:t>robotników oraz wysoko wyspecjalizowanych pracowników w branży budowlanej, np. murarza, operatora wiertni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Arial"/>
              </a:rPr>
              <a:t>Zapotrzebowanie na pracowników – wymagania wobec kandydató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5F456-6EE9-4814-9EFD-AFDBC73064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ole tekstowe 7"/>
          <p:cNvSpPr/>
          <p:nvPr/>
        </p:nvSpPr>
        <p:spPr>
          <a:xfrm>
            <a:off x="857160" y="2786040"/>
            <a:ext cx="7143840" cy="18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Największym zainteresowaniem ze strony badanych cieszą się osoby z </a:t>
            </a:r>
            <a:r>
              <a:rPr b="1" lang="pl-PL" sz="2000" spc="-1" strike="noStrike">
                <a:solidFill>
                  <a:srgbClr val="1f497d"/>
                </a:solidFill>
                <a:latin typeface="Arial"/>
              </a:rPr>
              <a:t>wykształceniem średnim zawodowym, zasadniczym zawodowym oraz wyższy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Arial"/>
              </a:rPr>
              <a:t>Zapotrzebowanie na pracowników – wymagania wobec kandydató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AB97E-CF71-4FAD-AABB-C2396460EF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ole tekstowe 7"/>
          <p:cNvSpPr/>
          <p:nvPr/>
        </p:nvSpPr>
        <p:spPr>
          <a:xfrm>
            <a:off x="857160" y="1643040"/>
            <a:ext cx="7143840" cy="34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1f497d"/>
                </a:solidFill>
                <a:latin typeface="Arial"/>
              </a:rPr>
              <a:t>Podstawowe wymagania stawiane kandydato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Posiadanie prawa jazdy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(38% wskazań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Umiejętność obsługi komputera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(36% wskazań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Znajomości metod sprzedaży bezpośredniej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(34% wskazań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Umiejętność obsługi maszyn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(tokarz, stolarz, etc.) (30% wskazań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Podstawowa wiedza z zakresu księgowości, ekonomii i finansów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(28% wskazań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Arial"/>
              </a:rPr>
              <a:t>Zapotrzebowanie na pracowników – wymagania wobec kandydató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ED809-ED2A-4D57-9324-36127E0747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ole tekstowe 7"/>
          <p:cNvSpPr/>
          <p:nvPr/>
        </p:nvSpPr>
        <p:spPr>
          <a:xfrm>
            <a:off x="285840" y="2428920"/>
            <a:ext cx="5000400" cy="28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Komunikatywność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(68% wskazań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Znajomość branży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(44% wskazań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Profesjonalizm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(38% wskazań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Odpowiedzialność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(38% wskazań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Odporność na stres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(36% wskazań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ole tekstowe 7"/>
          <p:cNvSpPr/>
          <p:nvPr/>
        </p:nvSpPr>
        <p:spPr>
          <a:xfrm>
            <a:off x="4357800" y="2786040"/>
            <a:ext cx="4572000" cy="27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Umiejętność szybkiego uczenia się/podnoszenia kwalifikacji zawodowyc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h (35% wskazań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Motywacja do pracy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(35% wskazań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Umiejętność dobrej organizacji prac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y (35% wskazań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ole tekstowe 7"/>
          <p:cNvSpPr/>
          <p:nvPr/>
        </p:nvSpPr>
        <p:spPr>
          <a:xfrm>
            <a:off x="1071720" y="2071800"/>
            <a:ext cx="69292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1f497d"/>
                </a:solidFill>
                <a:latin typeface="Arial"/>
              </a:rPr>
              <a:t>Dodatkowe wymagania stawiane kandydatom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Arial"/>
              </a:rPr>
              <a:t>Zainteresowanie zatrudnieniem osób w szczególnej sytuacji na rynku pra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D7172-3805-4AE3-A6AC-ADEED26443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ole tekstowe 7"/>
          <p:cNvSpPr/>
          <p:nvPr/>
        </p:nvSpPr>
        <p:spPr>
          <a:xfrm>
            <a:off x="785880" y="1785960"/>
            <a:ext cx="7572240" cy="152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onad połowa przedsiębiorców objętych badaniem nie planuje przyjęć do pracy osób, które znajdują się w szczególnej sytuacji na rynku prac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Chęć zatrudnienia w swojej firmie pracownika spośród tej grupy osób wyraża 29% badany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4" name="Picture 2" descr=""/>
          <p:cNvPicPr/>
          <p:nvPr/>
        </p:nvPicPr>
        <p:blipFill>
          <a:blip r:embed="rId1"/>
          <a:stretch/>
        </p:blipFill>
        <p:spPr>
          <a:xfrm>
            <a:off x="1357200" y="3500280"/>
            <a:ext cx="6429600" cy="28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Arial"/>
              </a:rPr>
              <a:t>Skala zwolnień pracowników w ciągu najbliższych 24 miesię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ECBDF-54D3-4C6A-98E5-C69E7A2399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ole tekstowe 7"/>
          <p:cNvSpPr/>
          <p:nvPr/>
        </p:nvSpPr>
        <p:spPr>
          <a:xfrm>
            <a:off x="785880" y="2071800"/>
            <a:ext cx="757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451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1f497d"/>
                </a:solidFill>
                <a:latin typeface="Arial"/>
              </a:rPr>
              <a:t>Około 4% przedsiębiorców zamierza zwalniać pracowników w ciągu najbliższych dwóch la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ole tekstowe 5"/>
          <p:cNvSpPr/>
          <p:nvPr/>
        </p:nvSpPr>
        <p:spPr>
          <a:xfrm>
            <a:off x="3286080" y="2928960"/>
            <a:ext cx="3024360" cy="107964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rzyczyny planowanych zwolnie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Strzałka w dół 6"/>
          <p:cNvSpPr/>
          <p:nvPr/>
        </p:nvSpPr>
        <p:spPr>
          <a:xfrm>
            <a:off x="4572000" y="4000680"/>
            <a:ext cx="431640" cy="1443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ole tekstowe 8"/>
          <p:cNvSpPr/>
          <p:nvPr/>
        </p:nvSpPr>
        <p:spPr>
          <a:xfrm>
            <a:off x="928800" y="4429080"/>
            <a:ext cx="60721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Malejące dochody przedsiębiorstw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Zamiar likwidacji przedsiębiorstwa lub poszczególnych placów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Konieczność redukcji zatrudnien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ygaśnięcie umowy stażowe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Inne powo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4AA7F-3AF8-4186-A306-51B9973C0B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ole tekstowe 6"/>
          <p:cNvSpPr/>
          <p:nvPr/>
        </p:nvSpPr>
        <p:spPr>
          <a:xfrm>
            <a:off x="714240" y="2143080"/>
            <a:ext cx="77155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800" spc="-1" strike="noStrike">
                <a:solidFill>
                  <a:srgbClr val="1f497d"/>
                </a:solidFill>
                <a:latin typeface="Arial"/>
              </a:rPr>
              <a:t>Ogólna charakterystyka przedsiębiorstw biorących udział w badaniu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D27A5-304E-44A8-839B-DDFA6DB0AD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ole tekstowe 9"/>
          <p:cNvSpPr/>
          <p:nvPr/>
        </p:nvSpPr>
        <p:spPr>
          <a:xfrm>
            <a:off x="1214280" y="1989000"/>
            <a:ext cx="67154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800" spc="-1" strike="noStrike">
                <a:solidFill>
                  <a:srgbClr val="1f497d"/>
                </a:solidFill>
                <a:latin typeface="Arial"/>
              </a:rPr>
              <a:t>Współpraca z Urzędem Pracy Powiatu Olsztyńskieg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Arial"/>
              </a:rPr>
              <a:t>Poziom wiedzy na temat oferowanych przez Urząd form wsparci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09911-B88E-4088-9BE3-CDA891182D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ole tekstowe 7"/>
          <p:cNvSpPr/>
          <p:nvPr/>
        </p:nvSpPr>
        <p:spPr>
          <a:xfrm>
            <a:off x="785880" y="2071800"/>
            <a:ext cx="7572240" cy="152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451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1f497d"/>
                </a:solidFill>
                <a:latin typeface="Arial"/>
              </a:rPr>
              <a:t>Przedsiębiorcy posiadający w swojej ocenie dobrą wiedzę na temat wsparcia udzielanego przez Urząd Pracy Powiatu Olsztyńskiego stanowią 23% ogółu badanych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Bardzo dobrze w tej kwestii orientuje się 8,3% przedstawicieli przedsiębiorst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ole tekstowe 8"/>
          <p:cNvSpPr/>
          <p:nvPr/>
        </p:nvSpPr>
        <p:spPr>
          <a:xfrm>
            <a:off x="1071720" y="4214880"/>
            <a:ext cx="7286400" cy="16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1f497d"/>
                </a:solidFill>
                <a:latin typeface="Arial"/>
              </a:rPr>
              <a:t>Źródła wiedz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Media i prasa (32% wskazań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racownicy urzędu (31,6% wskazań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Internet (29,5% wskazań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Arial"/>
              </a:rPr>
              <a:t>Współpraca z Urzędem Pracy Powiatu Olsztyńskie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2BD0F-E4BE-45AC-82FB-4BAA637775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Picture 2" descr=""/>
          <p:cNvPicPr/>
          <p:nvPr/>
        </p:nvPicPr>
        <p:blipFill>
          <a:blip r:embed="rId1"/>
          <a:stretch/>
        </p:blipFill>
        <p:spPr>
          <a:xfrm>
            <a:off x="1428840" y="1785960"/>
            <a:ext cx="6357960" cy="3027240"/>
          </a:xfrm>
          <a:prstGeom prst="rect">
            <a:avLst/>
          </a:prstGeom>
          <a:ln w="0">
            <a:noFill/>
          </a:ln>
        </p:spPr>
      </p:pic>
      <p:sp>
        <p:nvSpPr>
          <p:cNvPr id="610" name="pole tekstowe 6"/>
          <p:cNvSpPr/>
          <p:nvPr/>
        </p:nvSpPr>
        <p:spPr>
          <a:xfrm>
            <a:off x="571680" y="4857840"/>
            <a:ext cx="7643520" cy="18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1f497d"/>
                </a:solidFill>
                <a:latin typeface="Arial"/>
              </a:rPr>
              <a:t>Przyczyny braku współprac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Niezatrudnianie nowych pracownikó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Mała aktywność działań podejmowanych przez Urzą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Brak czas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Fragmentarycznej wiedzy na temat dostępnych form wsparc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Arial"/>
              </a:rPr>
              <a:t>Formy współpracy z Urzędem Pracy Powiatu Olsztyńskie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0CD00-81C6-4687-877A-A388EAD48B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ole tekstowe 6"/>
          <p:cNvSpPr/>
          <p:nvPr/>
        </p:nvSpPr>
        <p:spPr>
          <a:xfrm>
            <a:off x="642960" y="2500200"/>
            <a:ext cx="7643880" cy="26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Najczęstszą formą wsparcia ze strony Urzędu, z której korzystają przedsiębiorcy są</a:t>
            </a:r>
            <a:r>
              <a:rPr b="1" lang="pl-PL" sz="2000" spc="-1" strike="noStrike">
                <a:solidFill>
                  <a:srgbClr val="1f497d"/>
                </a:solidFill>
                <a:latin typeface="Arial"/>
              </a:rPr>
              <a:t> staże, dofinansowania do stanowiska pracy oraz pośrednictwo prac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 wielu wypadkach współpraca ta opiera się również na pracach interwencyjnych oraz pomocy w poszukiwaniu pracownikó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Arial"/>
              </a:rPr>
              <a:t>Ocena współpracy z Urzędem Pracy Powiatu Olsztyńskie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60FB6-828A-41A0-9BA4-751BC2303C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ole tekstowe 6"/>
          <p:cNvSpPr/>
          <p:nvPr/>
        </p:nvSpPr>
        <p:spPr>
          <a:xfrm>
            <a:off x="642960" y="1857240"/>
            <a:ext cx="7643880" cy="101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1f497d"/>
                </a:solidFill>
                <a:latin typeface="Arial"/>
              </a:rPr>
              <a:t>Ponad 86% badanych twierdzi, że z Urzędem współpracuje się dobrze albo bardzo dobrz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7" name="Picture 2" descr=""/>
          <p:cNvPicPr/>
          <p:nvPr/>
        </p:nvPicPr>
        <p:blipFill>
          <a:blip r:embed="rId1"/>
          <a:stretch/>
        </p:blipFill>
        <p:spPr>
          <a:xfrm>
            <a:off x="1214280" y="3214800"/>
            <a:ext cx="667548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Arial"/>
              </a:rPr>
              <a:t>Ocena współpracy z Urzędem Pracy Powiatu Olsztyńskie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65D9B-90C3-4FF1-BC5B-AB36CC124C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ole tekstowe 6"/>
          <p:cNvSpPr/>
          <p:nvPr/>
        </p:nvSpPr>
        <p:spPr>
          <a:xfrm>
            <a:off x="714240" y="5286240"/>
            <a:ext cx="7643880" cy="13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 ogólnej ocenie ponad 3/4 przedsiębiorców współpracujących z Urzędem Pracy jest zadowolonych z pozyskanych dzięki tej współpracy pracowników</a:t>
            </a:r>
            <a:r>
              <a:rPr b="0" lang="pl-PL" sz="2000" spc="-1" strike="noStrike">
                <a:solidFill>
                  <a:srgbClr val="1f497d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1" name="Picture 2" descr=""/>
          <p:cNvPicPr/>
          <p:nvPr/>
        </p:nvPicPr>
        <p:blipFill>
          <a:blip r:embed="rId1"/>
          <a:stretch/>
        </p:blipFill>
        <p:spPr>
          <a:xfrm>
            <a:off x="1000080" y="2000160"/>
            <a:ext cx="722304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Arial"/>
              </a:rPr>
              <a:t>Ocena współpracy z Urzędem Pracy Powiatu Olsztyńskie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77EE2-5DA3-4E15-A9B1-BAC0334F2B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ole tekstowe 6"/>
          <p:cNvSpPr/>
          <p:nvPr/>
        </p:nvSpPr>
        <p:spPr>
          <a:xfrm>
            <a:off x="857160" y="1428840"/>
            <a:ext cx="7643880" cy="13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 ocenie ponad jednej trzeciej przedsiębiorców z powiatu olsztyńskiego </a:t>
            </a:r>
            <a:r>
              <a:rPr b="1" lang="pl-PL" sz="2000" spc="-1" strike="noStrike">
                <a:solidFill>
                  <a:srgbClr val="1f497d"/>
                </a:solidFill>
                <a:latin typeface="Arial"/>
              </a:rPr>
              <a:t>stopień skomplikowania procedur oraz dokumentacji stosowanych przez Urząd jest nisk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5" name="Picture 2" descr=""/>
          <p:cNvPicPr/>
          <p:nvPr/>
        </p:nvPicPr>
        <p:blipFill>
          <a:blip r:embed="rId1"/>
          <a:stretch/>
        </p:blipFill>
        <p:spPr>
          <a:xfrm>
            <a:off x="1357200" y="3071880"/>
            <a:ext cx="700092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Arial"/>
              </a:rPr>
              <a:t>Zainteresowanie współpracą z Urzędem Pracy Powiatu Olsztyńskie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5B978-51ED-4072-97AC-A18144C171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ole tekstowe 6"/>
          <p:cNvSpPr/>
          <p:nvPr/>
        </p:nvSpPr>
        <p:spPr>
          <a:xfrm>
            <a:off x="785880" y="2357280"/>
            <a:ext cx="7643880" cy="192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Niski stopień skomplikowania procedur stosowanych przez Urząd Pracy Powiatu Olsztyńskiego może mieć pozytywny wpływ na chęć podejmowania współpracy z Urzędem również przez podmioty, które do tej pory nie korzystały z jego wsparc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Arial"/>
              </a:rPr>
              <a:t>Zainteresowanie współpracą z Urzędem Pracy Powiatu Olsztyńskie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Symbol zastępczy numeru slajd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3B33A-ECD4-4581-A3A2-50A86EC449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ole tekstowe 5"/>
          <p:cNvSpPr/>
          <p:nvPr/>
        </p:nvSpPr>
        <p:spPr>
          <a:xfrm>
            <a:off x="2428920" y="1928880"/>
            <a:ext cx="4000320" cy="107928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referowane formy współpracy z Urzęde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ole tekstowe 11"/>
          <p:cNvSpPr/>
          <p:nvPr/>
        </p:nvSpPr>
        <p:spPr>
          <a:xfrm>
            <a:off x="1071720" y="3357720"/>
            <a:ext cx="6643440" cy="32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Staże (43,3% wskazań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Refundacja kosztów doposażenia lub wyposażenia stanowiska pracy dla skierowanego bezrobotnego (38% wskazań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Organizacja przygotowania zawodowego dla dorosłych (19,3% wskazań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Prace interwencyjne (15,2% wskazań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Strzałka w dół 13"/>
          <p:cNvSpPr/>
          <p:nvPr/>
        </p:nvSpPr>
        <p:spPr>
          <a:xfrm>
            <a:off x="4286160" y="3000240"/>
            <a:ext cx="432000" cy="1447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Arial"/>
              </a:rPr>
              <a:t>Podsumowan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Symbol zastępczy numeru slajd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40211-F99C-4DFE-9E18-8E5A0D8E1C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ole tekstowe 11"/>
          <p:cNvSpPr/>
          <p:nvPr/>
        </p:nvSpPr>
        <p:spPr>
          <a:xfrm>
            <a:off x="857160" y="2143080"/>
            <a:ext cx="70725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Jak wynika z przeprowadzonego badania powiat olsztyński ma predyspozycję do rozwoju oraz wchłonięcia nowej siły roboczej. Istotne jest jednak nawiązanie ścisłej współpracy pracodawców z pracownikami  Urzędu Pracy Powiatu Olsztyńskiego, co pozwoli na dobór instrumentów i usług rynku pracy, które sprawią, iż osoby bezrobotne staną się bardziej atrakcyjne dla potencjalnych pracodawcó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Arial"/>
              </a:rPr>
              <a:t>Ogólna charakterystyka przedsiębiorstw biorących udział w badani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3FC3F-F8D0-49E8-BE22-9A4F992FD0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ole tekstowe 6"/>
          <p:cNvSpPr/>
          <p:nvPr/>
        </p:nvSpPr>
        <p:spPr>
          <a:xfrm>
            <a:off x="357120" y="2143080"/>
            <a:ext cx="8569440" cy="372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iększość z badanych przedsiębiorstw powstało w ostatnich pięciu bądź dziesięciu la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Badaniem objęto jednostki, których siedziba znajdowała się na terenie powiatu olsztyńskiego lub też, których siedziba zlokalizowana na tym terenie posiadała samodzielną politykę personaln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Największa ich liczba znajduje się w mieście Biskupiec oraz Barczewo (w sumie ponad 42%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Największy odsetek uczestników badania (63% jednostek) stanowiły osoby fizyczne prowadzące działalność gospodarcz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Text Box 3"/>
          <p:cNvSpPr/>
          <p:nvPr/>
        </p:nvSpPr>
        <p:spPr>
          <a:xfrm>
            <a:off x="3419640" y="5589720"/>
            <a:ext cx="3155760" cy="100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Berlin Sans FB Demi"/>
              </a:rPr>
              <a:t>www.bio</a:t>
            </a:r>
            <a:r>
              <a:rPr b="0" lang="pl-PL" sz="2000" spc="-1" strike="noStrike">
                <a:solidFill>
                  <a:srgbClr val="c00000"/>
                </a:solidFill>
                <a:latin typeface="Berlin Sans FB Demi"/>
              </a:rPr>
              <a:t>s</a:t>
            </a:r>
            <a:r>
              <a:rPr b="0" lang="pl-PL" sz="2000" spc="-1" strike="noStrike">
                <a:solidFill>
                  <a:srgbClr val="000000"/>
                </a:solidFill>
                <a:latin typeface="Berlin Sans FB Demi"/>
              </a:rPr>
              <a:t>tat.com.p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85800" y="2390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376092"/>
                </a:solidFill>
                <a:latin typeface="Arial"/>
              </a:rPr>
              <a:t>Dziękujemy za uwag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9" name="Picture 2" descr="BioStat - Logo"/>
          <p:cNvPicPr/>
          <p:nvPr/>
        </p:nvPicPr>
        <p:blipFill>
          <a:blip r:embed="rId1"/>
          <a:stretch/>
        </p:blipFill>
        <p:spPr>
          <a:xfrm>
            <a:off x="3500280" y="5229360"/>
            <a:ext cx="2224080" cy="360360"/>
          </a:xfrm>
          <a:prstGeom prst="rect">
            <a:avLst/>
          </a:prstGeom>
          <a:ln w="0">
            <a:noFill/>
          </a:ln>
        </p:spPr>
      </p:pic>
      <p:pic>
        <p:nvPicPr>
          <p:cNvPr id="640" name="Picture 23" descr=""/>
          <p:cNvPicPr/>
          <p:nvPr/>
        </p:nvPicPr>
        <p:blipFill>
          <a:blip r:embed="rId2"/>
          <a:stretch/>
        </p:blipFill>
        <p:spPr>
          <a:xfrm>
            <a:off x="0" y="0"/>
            <a:ext cx="2800440" cy="1357200"/>
          </a:xfrm>
          <a:prstGeom prst="rect">
            <a:avLst/>
          </a:prstGeom>
          <a:ln w="0">
            <a:noFill/>
          </a:ln>
        </p:spPr>
      </p:pic>
      <p:pic>
        <p:nvPicPr>
          <p:cNvPr id="641" name="Picture 25" descr="UE+EFS_L-kolor"/>
          <p:cNvPicPr/>
          <p:nvPr/>
        </p:nvPicPr>
        <p:blipFill>
          <a:blip r:embed="rId3"/>
          <a:stretch/>
        </p:blipFill>
        <p:spPr>
          <a:xfrm>
            <a:off x="6659640" y="404640"/>
            <a:ext cx="2098440" cy="7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Arial"/>
              </a:rPr>
              <a:t>Zasięg terytorialny przedsiębiorstw biorących udział w badani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C2B42-A12D-47C8-87ED-F63D8910B2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1" name="Picture 2" descr=""/>
          <p:cNvPicPr/>
          <p:nvPr/>
        </p:nvPicPr>
        <p:blipFill>
          <a:blip r:embed="rId1"/>
          <a:stretch/>
        </p:blipFill>
        <p:spPr>
          <a:xfrm>
            <a:off x="1357200" y="2071800"/>
            <a:ext cx="6429600" cy="2990880"/>
          </a:xfrm>
          <a:prstGeom prst="rect">
            <a:avLst/>
          </a:prstGeom>
          <a:ln w="0">
            <a:noFill/>
          </a:ln>
        </p:spPr>
      </p:pic>
      <p:sp>
        <p:nvSpPr>
          <p:cNvPr id="482" name="pole tekstowe 6"/>
          <p:cNvSpPr/>
          <p:nvPr/>
        </p:nvSpPr>
        <p:spPr>
          <a:xfrm>
            <a:off x="1000080" y="5429160"/>
            <a:ext cx="6786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Największy odsetek badanych przedsiębiorstw - 58% - obejmuje swoim zasięgiem działania biznesowego obszar powiat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Arial"/>
              </a:rPr>
              <a:t>Struktura zatrudnienia w badanych przedsiębiorstw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C4EB8-F3EC-4D42-97AD-8DBD1B5A3D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ole tekstowe 6"/>
          <p:cNvSpPr/>
          <p:nvPr/>
        </p:nvSpPr>
        <p:spPr>
          <a:xfrm>
            <a:off x="1000080" y="1928880"/>
            <a:ext cx="6786720" cy="42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451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1f497d"/>
                </a:solidFill>
                <a:latin typeface="Arial"/>
              </a:rPr>
              <a:t>Kadra zarządzająca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ystępuje w prawie 40% badanych firm, jednakże w znacznej części przedsiębiorstw do tego grona zaliczał się właściciel, bądź współwłaściciel firm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Ze względu na duży udział firm o charakterze handlowo-usługowym w przypadku połowy badanych przedsiębiorstw zatrudnieni są </a:t>
            </a:r>
            <a:r>
              <a:rPr b="1" lang="pl-PL" sz="1800" spc="-1" strike="noStrike">
                <a:solidFill>
                  <a:srgbClr val="1f497d"/>
                </a:solidFill>
                <a:latin typeface="Arial"/>
              </a:rPr>
              <a:t>pracownicy usług osobistych oraz sprzedawc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1f497d"/>
                </a:solidFill>
                <a:latin typeface="Arial"/>
              </a:rPr>
              <a:t>Kadra specjalistów oraz pracowników biurowych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ystępuje w około jednej trzeciej badanych jednostek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1f497d"/>
                </a:solidFill>
                <a:latin typeface="Arial"/>
              </a:rPr>
              <a:t>Pracownicy pracujący przy pracach prostych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zatrudnieni są w 40% badanych fir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Arial"/>
              </a:rPr>
              <a:t>Struktura wiekowa zatrudnionych pracownikó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94108-A08B-4ADB-830C-0DE7815383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ole tekstowe 6"/>
          <p:cNvSpPr/>
          <p:nvPr/>
        </p:nvSpPr>
        <p:spPr>
          <a:xfrm>
            <a:off x="1000080" y="1928880"/>
            <a:ext cx="678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racownicy w wieku pomiędzy 25 a 34 lat dominują w 37% badanych przedsiębiorstw. Prawie jedna piąta odpowiedzi wskazywała na przedział pomiędzy 35-44 lat jako dominujący wiek zatrudnionych pracownikó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9" name="Picture 2" descr=""/>
          <p:cNvPicPr/>
          <p:nvPr/>
        </p:nvPicPr>
        <p:blipFill>
          <a:blip r:embed="rId1"/>
          <a:stretch/>
        </p:blipFill>
        <p:spPr>
          <a:xfrm>
            <a:off x="1428840" y="3279600"/>
            <a:ext cx="6369120" cy="293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Arial"/>
              </a:rPr>
              <a:t>Dominująca forma zatrudnienia pracownikó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D9053-B045-4527-8068-3D73A50AD3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ole tekstowe 6"/>
          <p:cNvSpPr/>
          <p:nvPr/>
        </p:nvSpPr>
        <p:spPr>
          <a:xfrm>
            <a:off x="1000080" y="1928880"/>
            <a:ext cx="678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 ponad połowie badanych przedsiębiorstw z powiatu olsztyńskiego dominującym rodzajem umowy jest </a:t>
            </a:r>
            <a:r>
              <a:rPr b="1" lang="pl-PL" sz="1800" spc="-1" strike="noStrike">
                <a:solidFill>
                  <a:srgbClr val="1f497d"/>
                </a:solidFill>
                <a:latin typeface="Arial"/>
              </a:rPr>
              <a:t>umowa na czas nieokreślon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3" name="Picture 2" descr=""/>
          <p:cNvPicPr/>
          <p:nvPr/>
        </p:nvPicPr>
        <p:blipFill>
          <a:blip r:embed="rId1"/>
          <a:stretch/>
        </p:blipFill>
        <p:spPr>
          <a:xfrm>
            <a:off x="1357200" y="3286080"/>
            <a:ext cx="645012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2T10:37:49Z</dcterms:created>
  <dc:creator>mszkarlat BioStat</dc:creator>
  <dc:description/>
  <dc:language>en-US</dc:language>
  <cp:lastModifiedBy>Michal</cp:lastModifiedBy>
  <dcterms:modified xsi:type="dcterms:W3CDTF">2010-12-12T15:17:50Z</dcterms:modified>
  <cp:revision>356</cp:revision>
  <dc:subject/>
  <dc:title>Badanie ewaluacyjne  projektu systemowego  „Cel – praca”</dc:title>
</cp:coreProperties>
</file>