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jpeg" ContentType="image/jpeg"/>
  <Override PartName="/ppt/media/image25.wmf" ContentType="image/x-wmf"/>
  <Override PartName="/ppt/media/image27.jpeg" ContentType="image/jpeg"/>
  <Override PartName="/ppt/media/image1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6BCB-D875-49A6-9F73-F2F24515C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D5D9-95C6-465B-A0E6-DF07EFBCB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A22F-AB2D-4E45-ADDE-840951F1D1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3EFD-378E-4217-8600-D2305B93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CA139-F188-40EF-AEC8-3CF14F69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3112D-83BE-4785-B9DC-820A414A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CC436-76C6-48FC-8E61-F26EDADE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5AAA0-8819-40BC-B136-8E74A209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50BBE-266B-4DB7-8757-3D686DFB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BD327-33BE-44A1-A839-852B76D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7BFB2-3071-487E-98D7-87A93844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411A4-C27B-468C-AB6A-2EF758C6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433AC-4FCD-4B57-B825-301198E9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70D0D-4A61-453C-93D5-3E38FC40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6145-288C-4BDA-8F99-AA183E67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0182C-2977-4E93-B2E6-56B1A25D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A36E2-4297-4C0E-B06B-4CBBD229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6A0A7-5981-4498-8FF7-BAD40EB3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CE372-C5B2-4F0E-AE3E-77245BFE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63DEE-5CFD-4880-956E-E3CFDCAA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FBD9F-5C47-40CD-88F9-8D34FEF5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39079-CB88-46C3-8DE9-3810662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2324C-AFAC-4DD2-870D-D20F93D7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CDC13-AC28-4415-9EFB-E29CA8F8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4B0B8-D0E3-49CA-8B9E-FD24FCB0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ADAE-7E40-4949-B8AE-5BC8BA6F3D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39D1C-3115-4DFB-8B91-5612D33A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4C2157-6CBA-4A17-851A-11FE3460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27260C-4C45-4E9F-A2CC-60F434A0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7229C0-5D48-48DC-A7BC-B304E2F4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1FE549-0B9B-4E14-8F2F-C8ABBB1C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33789A-1BAB-4D30-9836-8F1C64EC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B0CA57-B8D1-4E30-A1F2-4349E13C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7218AD-D069-4097-B808-4749C78A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B03791-8617-4B99-A16C-764256CE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AD3B10-1236-4547-86D7-0AAF5CB5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4C087-3286-4A65-9DCD-00E00082A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D93981-1788-4EE8-977A-999B0505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460F64-AB48-4455-90D9-0B01104D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E917E7-60E0-4847-9D2D-704D4DD0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5888B-AC5B-4D1D-A35B-6E10D23E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5EFEC-ED77-4A7C-8CDA-61BFE989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49DD0-D6E6-43AE-959C-166F73D9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B6706-51BD-4130-B4DE-9DEDFAD4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2412E-4EB9-455C-9A47-E59B370F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263F7-47CA-4B2E-B9E4-4A7D2092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12F1F-C77A-49D7-8975-4BC22A15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E8DC0-17CA-4673-9F8B-1AC1E47D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001BD-BC83-4783-9C88-A8FF573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05404-4858-4A50-94DD-F59DA4A1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13E8A-26B0-4D78-965D-E7B1A0C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56B40-6D23-4605-B275-6B3527E493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21448E-0913-444D-878C-852FF82B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356628-5F8F-4DAE-97BC-8781AA8D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B0F88-37DE-4A14-9FBC-9402C483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DFA151-3BD0-4BEC-BEA2-5D91AD7E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C6D86-40FD-4663-AE2A-5E4E9D1D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49C0-19FF-4A83-9F95-F85F056D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086D2-D63F-4F14-8E55-2C934CD5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FBA236-A137-4413-A0C4-8D6061F7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33EF8F-ACCB-4CB3-AE70-A5237D43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D0B8E-F7F5-47A2-94C8-ECD86E4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D9913-E984-4875-9BBE-B925DD23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31DC5-9219-49BF-8902-D887BF4A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02898-A476-4CB4-B49C-57D824D7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95E5E7-A519-47D4-B487-D57CE1E1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3A076A-55E8-446D-AE4B-6BEE4929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3A984E-F02E-4D0F-98BE-C1E63CD1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BA6F-1274-4790-83C8-37879E57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66D52-1DEC-4ABE-BE4D-CAF5F6FD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27AA23-5AF2-4F4A-BC16-959706EC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5D663-D17D-41D8-A4AF-ACFBDD1F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6930F-997E-4715-9A5A-8F3D769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9A451-6BAE-4296-B3FE-43038C2F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B96DF-8320-448A-B282-41EE9189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5DA3B-F6BE-4853-83BB-342D07EE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999A8-56C7-43C0-AB91-D0EDFBFB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A47FF7-49BA-4737-A583-7776C844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6A0273-222F-4EF4-A7E7-239D35C8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62BB-488F-47E4-AE20-1B7F6DF8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6BBCA1-EF17-427F-9092-A61D072A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11A4B2-611C-45E8-AB5A-A4475CA1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C20D61-C8B6-498A-A9D5-4314887D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6D8BC1-CD2C-4421-954E-695C1189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857BC1-D80C-4387-ABE4-1BB506B0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EF5744-5711-49FD-B46F-E44ABF3D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19A5DB-EBBB-4CBB-922D-26087A59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1EA48-D64C-4B1F-BCBF-6B40ACDA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7750D-6E3B-4E9F-9548-3B061EEB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CE6531-78B4-49D5-9B82-25BAE16C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AF76-EEE1-4C22-B17B-DF6E782D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8B0191-A7B4-4CDD-990A-2FCC264E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351727-E586-46A8-864E-C227F0FA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CAD5D2-524D-404F-8A31-95D28F33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C34648-A4E4-4691-BA52-3647E1E6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637157-A12F-4ECA-9B38-393B547A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B4EF7E-B233-417F-817C-0F015EA0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EC836F-EEBC-4F62-820D-64C14975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8BC0DA-F307-452B-9BEF-92B7D11D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AF574A-426B-487E-B8DF-BEE850B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48C20D-96F0-4CE1-A0D0-4E5B209F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EFAB-7141-45EB-9DAF-AD8B6F55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35D8A3-79DB-476F-84D4-FC6B717B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BFCB55-FA26-4979-B1CF-EB694DDA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057B39-9D18-44D8-B9D8-B7A3ED00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C49B6E-55F3-4829-9575-EA71D34F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BEF284-8665-4206-8AFF-2D06ACF8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6795AF-916A-4A3B-9F4A-22195B0D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CDC4C4-7BC1-497A-ABA6-B5CC1CC2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45B4F6-6777-4F21-B42D-33E3A0D6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94BC0A-639F-40F3-8B4D-6F7E1DF2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B55BF6-0984-481F-8EE3-E863B56F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EBD9-0999-4050-AC93-47925C96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DB90DE-30E8-4AB9-ACF7-DFBBB73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071EE3-A79E-4B8B-9E7B-25F4577D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0FDD2B-BD9B-4F9C-AFBC-1CA516D4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0ADD2-5D27-4971-B964-FD46A4FE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1A262C-1BAB-4557-959E-8D20E203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522028-0D28-43BC-B9CF-5B10053D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4E25C0-7F26-4025-A457-808979FE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EE7EB7-2F5E-4DA9-B9D0-4FF2E852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E1A970-D280-4B4B-BA65-14B03A1D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798F7A-415E-4A8F-9587-6F10C219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5D2B-EA6B-48F9-AE02-5B2CE427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7A0C42-4832-4826-AEE4-11EE65F1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715E20-9C19-4650-82B7-BF66F122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712F48-9A39-4BA5-BD40-E0F9D07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329C51-17F5-42DD-AB32-4FB37DAB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51D738-98E4-4972-9248-741B323A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B7EE5-66E1-4090-BAB6-5E61D6E6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920CF4-D228-4836-B146-70946E90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16EBB-4B65-4E44-974B-BB9F572C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7C432-3947-40CB-AA00-30B169F0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5F769-34D1-4C32-ACCE-E2C99B0C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F829-1EA5-4BAD-AE58-D9EB97BD72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B0E8-B64A-4FE1-B681-1963A0660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DC56-ED76-4012-9A08-26A749C52D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3CB9-DFF4-41F4-990C-761B46CE9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FA9F-A5B6-4856-A352-216CC20851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11DE-8189-4B0D-B73C-1834CFC70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F955-0B1A-40F2-A52A-ED97B901FA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C5A8-583D-4D4E-96C4-CAC74645E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A1BF-0C82-4B0B-AE42-4F2D5F79CD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03BF-9ACD-4083-82DE-238EC0124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6859-8131-403A-84CD-F09F16751D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82C9-B51F-44AB-ACAE-47767397D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2904-2B20-4C09-896C-521CA862FF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FD26-1B5E-41E6-BAB0-F92261ADA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F43C-69AB-4D24-92A3-B90207676A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2409-67CB-4B20-B606-D84EAD9F6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F835-42AB-4D17-8F46-DD165A6FFC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4FB3-FCF5-45DA-8629-C7F97ED20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E747-4212-4439-8780-F54DA48552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2110-F67E-44DC-A609-6C778B616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5A91-9434-4C0C-B5F9-8226F1825D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3D64-E467-4A60-8851-FB454920E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5" descr="UE+EFS_L-kolor"/>
          <p:cNvPicPr/>
          <p:nvPr/>
        </p:nvPicPr>
        <p:blipFill>
          <a:blip r:embed="rId2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  <p:sp>
        <p:nvSpPr>
          <p:cNvPr id="460" name="Tytuł 1"/>
          <p:cNvSpPr/>
          <p:nvPr/>
        </p:nvSpPr>
        <p:spPr>
          <a:xfrm>
            <a:off x="0" y="1214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Sytuacja i oczeki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pracodawców w powiec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olsztyńsk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2357280" cy="2489400"/>
          </a:xfrm>
          <a:prstGeom prst="rect">
            <a:avLst/>
          </a:prstGeom>
          <a:ln w="0">
            <a:noFill/>
          </a:ln>
        </p:spPr>
      </p:pic>
      <p:pic>
        <p:nvPicPr>
          <p:cNvPr id="462" name="Obraz 14" descr=""/>
          <p:cNvPicPr/>
          <p:nvPr/>
        </p:nvPicPr>
        <p:blipFill>
          <a:blip r:embed="rId4"/>
          <a:stretch/>
        </p:blipFill>
        <p:spPr>
          <a:xfrm>
            <a:off x="428760" y="5929200"/>
            <a:ext cx="842760" cy="596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1746360" y="5930640"/>
            <a:ext cx="46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jekt Urzędu Pracy Powiatu Olsztyńskiego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walifikacje Twoim kapitałe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spó</a:t>
            </a:r>
            <a:r>
              <a:rPr b="1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łf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ansowany przez Unię Europejską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732720" y="4508640"/>
            <a:ext cx="18763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Realizac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Obraz 11" descr="BioStat - Logo"/>
          <p:cNvPicPr/>
          <p:nvPr/>
        </p:nvPicPr>
        <p:blipFill>
          <a:blip r:embed="rId5"/>
          <a:stretch/>
        </p:blipFill>
        <p:spPr>
          <a:xfrm>
            <a:off x="6804000" y="4869000"/>
            <a:ext cx="1486080" cy="2538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0"/>
          <p:cNvSpPr/>
          <p:nvPr/>
        </p:nvSpPr>
        <p:spPr>
          <a:xfrm>
            <a:off x="6732720" y="5157720"/>
            <a:ext cx="2000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12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2490-7801-4148-8BA5-48E3B6EE2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ole tekstowe 6"/>
          <p:cNvSpPr/>
          <p:nvPr/>
        </p:nvSpPr>
        <p:spPr>
          <a:xfrm>
            <a:off x="1619280" y="198900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Funkcjonowanie badanych przedsiębiorst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Kondycja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6AD3-1790-484C-9AF3-84E4A7E79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6"/>
          <p:cNvSpPr/>
          <p:nvPr/>
        </p:nvSpPr>
        <p:spPr>
          <a:xfrm>
            <a:off x="1000080" y="171468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liczba badanych – 40,9% – wskazała na  średni poziom kondycji przedsiębiorstwa (ani dobra, ani zła)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37% przedsiębiorców określiło kondycję swojej firmy jako dobr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7000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rognozowany popyt na produkty/usługi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4BE3-4358-45C5-867C-4449311F2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(29,2%) uznał, iż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pyt w ich firmie w przeciągu najbliższych 12 miesięcy nie ulegnie zmi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28840" y="2786040"/>
          <a:ext cx="6786360" cy="2855880"/>
        </p:xfrm>
        <a:graphic>
          <a:graphicData uri="http://schemas.openxmlformats.org/drawingml/2006/table">
            <a:tbl>
              <a:tblPr/>
              <a:tblGrid>
                <a:gridCol w="5286240"/>
                <a:gridCol w="1500120"/>
              </a:tblGrid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wskaza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szybciej niż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 tym samym tem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oln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taki sam jak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niższ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dno powiedzie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pływ recesji gospodarczej na funkcjonowanie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A0FB-410D-4B6F-8F23-3C387F8FB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7% respondentów uznało, iż recesja gospodarcza miała wpływ na funkcjonowanie ich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7292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Czynniki wpływające na rozwój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5333-A3D9-4C78-B7E8-7ECE752AE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ole tekstowe 6"/>
          <p:cNvSpPr/>
          <p:nvPr/>
        </p:nvSpPr>
        <p:spPr>
          <a:xfrm>
            <a:off x="100008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iczniejsza grupa respondentów uznała, iż 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 finans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łby rozwój ich przedsiębiorstwa. Niemalże równie istotny wpływ na rozwój firmy, zdaniem respondentów maj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i gospodarc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6643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Bariery w rozwoju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0E0A-E28C-47D9-B168-69B75656D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6"/>
          <p:cNvSpPr/>
          <p:nvPr/>
        </p:nvSpPr>
        <p:spPr>
          <a:xfrm>
            <a:off x="1143000" y="2143080"/>
            <a:ext cx="65721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Najpoważniejsze przeszkody w procesie rozwoju, jakie wskazują pracodawc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ariera finansowa, czyli brak środków na podjęcie konkret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iurokracja ograniczająca rozwój podmiotów gospodarcz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byt mała ilość klientów i duża konkurencja na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522D-908F-4107-A252-296955AEC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le tekstowe 6"/>
          <p:cNvSpPr/>
          <p:nvPr/>
        </p:nvSpPr>
        <p:spPr>
          <a:xfrm>
            <a:off x="1000080" y="52149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ostatnich dwóch lat poprzedzających badanie,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owych pracowników przyjęło 43,0% objętych badaniem fir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tomiast 57,0% respondentów odpowiedziało, że w ciągu ostatnich dwóch lat nie przyjmowali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759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A9CF-B61B-4833-A246-F16D36B8B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ole tekstowe 6"/>
          <p:cNvSpPr/>
          <p:nvPr/>
        </p:nvSpPr>
        <p:spPr>
          <a:xfrm>
            <a:off x="971640" y="1916280"/>
            <a:ext cx="73580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przedsiębiorców przyjęło nowych pracowników na zasadz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y o pracę na czas określo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sko takie zadeklarowało 53,0%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5,0% respondentów  zatrudniło nowych pracowników w oparciu 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ę na czas nieokreśl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56% respondentów uważa, że zatrudnieni przez nich pracownicy posiadali wykształcenie adekwatne do wykonywanego przez nich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4D91-AA87-45DE-A8CC-036C505FF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ole tekstowe 6"/>
          <p:cNvSpPr/>
          <p:nvPr/>
        </p:nvSpPr>
        <p:spPr>
          <a:xfrm>
            <a:off x="714240" y="2000160"/>
            <a:ext cx="73580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rupie badanych 500 przedsiębiorstw, w ciągu ostatnich dwóch lat zatrudni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kadry zarządzając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tanowiska specjalistycz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jęto 185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średni person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trudniono 167 osó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ecydowanie liczniejszą grupę stanowili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i sprzedawc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01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 przeprowadzonej ankiety wynika, że większość nowoprzyjętych pracowników (875 osób) stanowiły osoby wykonujące prace pr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F5B6-FFAD-44DA-BB2F-099262E57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ole tekstowe 6"/>
          <p:cNvSpPr/>
          <p:nvPr/>
        </p:nvSpPr>
        <p:spPr>
          <a:xfrm>
            <a:off x="714240" y="1857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nowo zatrudnionych pracowników stanowiły osoby w przedziale wiekowym 25-34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071720" y="2749680"/>
            <a:ext cx="7143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Cel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adanie lokalnego rynku pracy na terenie powiatu olsztyńskiego, miało na celu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  <a:ea typeface="Arial"/>
              </a:rPr>
              <a:t>zdiagnozowanie zapotrzebowania pracodawców na kwalifikacje i umiejętności zawodowe kandydatów do pracy  oraz usługi i instrumenty rynku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le szczegółowe projektu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sytuacji na lokalnym rynku pracy, jego dynamiki oraz kierunków zmi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 popytu na pracę w odniesieniu do ilości tworzonych przez pracodawców miejsc pracy posiadanych ofert pracy oraz pożądanych kwalifikacji i umiejętności zawodowych kandydatów do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zapotrzebowania pracodawców na usługi i instrumenty rynku pracy realizowane przez urząd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3E2E-49E6-40F3-A711-3FB71D08E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0C67-13F5-4394-877F-6CD3940E2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6"/>
          <p:cNvSpPr/>
          <p:nvPr/>
        </p:nvSpPr>
        <p:spPr>
          <a:xfrm>
            <a:off x="684360" y="1916280"/>
            <a:ext cx="79912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40% pracodawców zatrudniło w ciągu ostatnich dwóch lat absolwentów szkół, osoby uczące się oraz osoby powyżej 50 roku ży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drugim biegunie znajdują się osoby niepełnosprawne, które w ostatnich dwóch latach zatrudniło tylko nieco ponad 8%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143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11C6-E1D3-4F4F-AFC2-6900CB824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ole tekstowe 6"/>
          <p:cNvSpPr/>
          <p:nvPr/>
        </p:nvSpPr>
        <p:spPr>
          <a:xfrm>
            <a:off x="714240" y="18572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zatrudnionych osób stanowiły osoby z wykształceniem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zasadniczym zawodowym oraz średnim zawodowy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92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F497-C770-49C5-AD38-864115FA4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7"/>
          <p:cNvSpPr/>
          <p:nvPr/>
        </p:nvSpPr>
        <p:spPr>
          <a:xfrm>
            <a:off x="785880" y="1643040"/>
            <a:ext cx="757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77 pracodawców zwalniało pracowników w ciągu ostatnich dwóch lat. Łącznie zwolnili oni 403 o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5% osób zwolnionych w ciągu ostatnich dwóch lat to właśnie pracownicy stanowisk przy pracach prostych, usług osobistych i sprze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mal dwukrotnie częściej dochodzi do zwalniania mężczyzn niż kobiet, co może wiązać się z większą ruchliwością mężczyzn na rynku pr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więcej firm zwalniało osoby w przedziale wiekowym między 35 a 44 rokiem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ecydowana większość spośród zwolnionych z pracy, tj. 52% to osoby powyżej 50 roku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rzadziej zwalnianymi przez pracodawców były osoby niepełnosprawne oraz kobiety, które urodziły dziecko, łącznie obie grupy stanowiły 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BCBF-D8E9-419D-BA31-744D1A981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6"/>
          <p:cNvSpPr/>
          <p:nvPr/>
        </p:nvSpPr>
        <p:spPr>
          <a:xfrm>
            <a:off x="785880" y="19890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Ewaluacja potrzeb szkoleniowych </a:t>
            </a:r>
            <a:br>
              <a:rPr sz="4800"/>
            </a:b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 badanych przedsiębiorstw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260F-3F80-472D-9915-096B3E752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6"/>
          <p:cNvSpPr/>
          <p:nvPr/>
        </p:nvSpPr>
        <p:spPr>
          <a:xfrm>
            <a:off x="785880" y="1857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co ponad 40% przedstawicieli badanych przedsiębiorstw z powiatu olsztyńskiego wskazało, że dominującym wykształceniem wśród ich pracowników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wykształcenie średnie ogólnokształc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704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zadowolenia z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41E0-2769-4735-94CA-A4E75F149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ole tekstowe 6"/>
          <p:cNvSpPr/>
          <p:nvPr/>
        </p:nvSpPr>
        <p:spPr>
          <a:xfrm>
            <a:off x="857160" y="5286240"/>
            <a:ext cx="735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ecydowana większość badanych odpowiedziała, że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jest zadowolona z wykształcenia i umiejętności swoich pracownik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228680" y="1785960"/>
            <a:ext cx="6932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godność wykształcenia pracowników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 wykonywanym zaw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F429-6C47-417D-ADB2-7D2F1FC6C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857160" y="5286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60% przedsiębiorców wskazało, że pracownicy wykonują pracę zgodną z ich zaw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666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anie osób w szczególnej sytuacji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3DE3-835E-459C-A54B-9FF98CA0B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ole tekstowe 6"/>
          <p:cNvSpPr/>
          <p:nvPr/>
        </p:nvSpPr>
        <p:spPr>
          <a:xfrm>
            <a:off x="857160" y="2214720"/>
            <a:ext cx="7358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połowa pracodawców potwierdziła, że zatrudni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powyżej 50 roku ży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% badanych oferuje pracę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obietom po urodzeniu dziec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Absolwenc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tórzy ukończyli szkołę w ciągu ostatnich dwóch lat  ora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czniowie i studen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acownikami prawie co trzeciej badanej fi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1f497d"/>
                </a:solidFill>
                <a:latin typeface="Arial"/>
              </a:rPr>
              <a:t>Zainteresowanie kształceniem pracowników/podnoszeniem ich kwalifikacji poprzez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EFFC-01CC-4594-8258-6775F5762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00160" y="2071800"/>
            <a:ext cx="7089840" cy="3214440"/>
          </a:xfrm>
          <a:prstGeom prst="rect">
            <a:avLst/>
          </a:prstGeom>
          <a:ln w="0">
            <a:noFill/>
          </a:ln>
        </p:spPr>
      </p:pic>
      <p:sp>
        <p:nvSpPr>
          <p:cNvPr id="560" name="pole tekstowe 7"/>
          <p:cNvSpPr/>
          <p:nvPr/>
        </p:nvSpPr>
        <p:spPr>
          <a:xfrm>
            <a:off x="714240" y="55720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wie połowa badanych wyraża zainteresowanie podnoszeniem kwalifikacji swoich pracowników poprzez szko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dotychczasowych szkoleń pracownicz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BDCF-CE16-4E1C-B978-A4FF23A71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286760" cy="3278160"/>
          </a:xfrm>
          <a:prstGeom prst="rect">
            <a:avLst/>
          </a:prstGeom>
          <a:ln w="0">
            <a:noFill/>
          </a:ln>
        </p:spPr>
      </p:pic>
      <p:sp>
        <p:nvSpPr>
          <p:cNvPr id="564" name="pole tekstowe 7"/>
          <p:cNvSpPr/>
          <p:nvPr/>
        </p:nvSpPr>
        <p:spPr>
          <a:xfrm>
            <a:off x="714240" y="52862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tematyki, dotychczas organizowanych szkoleń, dominował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zkolenia BHP, szkolenia z zakresu sprzedaży i obsługi klienta, administracyjno-biurowe oraz szkolenia zawodow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Metodologia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855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danie zostało zrealizowane w okresie od października do listopada 2010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  <a:ea typeface="Arial"/>
              </a:rPr>
              <a:t>Techniki i narzędzia badawc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danych zast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wiady kwestionariusz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50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ndywidualny wywiad pogłębiony (IDI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3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3BBF-F7BC-436D-AF07-D1A85D788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0AC4-7D5A-45F1-B191-2A9B90C4F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428840" y="198900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Plany przedsiębiorców dotyczące zatrudni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9216-7123-45A4-9C59-49D43AFB1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"/>
          <p:cNvSpPr/>
          <p:nvPr/>
        </p:nvSpPr>
        <p:spPr>
          <a:xfrm>
            <a:off x="642960" y="1717560"/>
            <a:ext cx="75722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5% przedsiębiorców z powiatu olsztyńskiego wskazało na brak trudności z dostępnością pracowników na lokalnym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udności w tym zakresie dostrzega łącznie 29,7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mniejsze problemy ze znalezieniem nowych pracowników mają przedsiębiorstwa związane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ieruchomościami, organizacje i stowarzyszenia oraz przedsiębiorstwa z branży finansow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trudności w znalezieniu nowych pracowników pojawiają się w przedsiębiorstwach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branży motoryzacyjnej oraz w jednostkach służby zdrow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pracowników w ciągu kolejn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97BD-817E-401F-B738-394298896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7"/>
          <p:cNvSpPr/>
          <p:nvPr/>
        </p:nvSpPr>
        <p:spPr>
          <a:xfrm>
            <a:off x="857160" y="54291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19% objętych badaniem osób stwierdziło, iż planuje w okresie kolejnych dwóch lat przyjąć now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97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4D71-B9B3-4524-BC84-989DF99D1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7"/>
          <p:cNvSpPr/>
          <p:nvPr/>
        </p:nvSpPr>
        <p:spPr>
          <a:xfrm>
            <a:off x="642960" y="2500200"/>
            <a:ext cx="774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Badani przedsiębiorcy z terenu powiatu olsztyńskiego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 większości deklarują, że zatrudniliby więcej pracowników mając wsparcie lokalnych instytucji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D77D-1036-4616-BAB2-E3BBC54B9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ole tekstowe 7"/>
          <p:cNvSpPr/>
          <p:nvPr/>
        </p:nvSpPr>
        <p:spPr>
          <a:xfrm>
            <a:off x="500040" y="2071800"/>
            <a:ext cx="75722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dawcy, którzy wzięli udział w badaniu najczęściej poszukują pracowników na stanowiska związane z działalnością gastronomiczną, tj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elnera, barmana, pomoc kuchen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respondentów pojawiła się dość znaczna grupa właścicieli przedsiębiorstw, którzy obecnie poszukują do prac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robotników oraz wysoko wyspecjalizowanych pracowników w branży budowlanej, np. murarza, operatora wiert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339B-EF55-45B5-9706-2CBE90863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7"/>
          <p:cNvSpPr/>
          <p:nvPr/>
        </p:nvSpPr>
        <p:spPr>
          <a:xfrm>
            <a:off x="857160" y="2786040"/>
            <a:ext cx="71438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m zainteresowaniem ze strony badanych cieszą się osoby z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ykształceniem średnim zawodowym, zasadniczym zawodowym oraz wyższ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37F2-5064-472A-AE36-4E99F7AC6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7"/>
          <p:cNvSpPr/>
          <p:nvPr/>
        </p:nvSpPr>
        <p:spPr>
          <a:xfrm>
            <a:off x="857160" y="1643040"/>
            <a:ext cx="71438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Podstawowe wymagania stawiane kandyd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nie prawa jazd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kompute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jomości metod sprzedaży bezpośredni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4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maszy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tokarz, stolarz, etc.) (30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owa wiedza z zakresu księgowości, ekonomii i finans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2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42CF-B10F-4607-A74F-1E3A4F92C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7"/>
          <p:cNvSpPr/>
          <p:nvPr/>
        </p:nvSpPr>
        <p:spPr>
          <a:xfrm>
            <a:off x="285840" y="2428920"/>
            <a:ext cx="5000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unikatyw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6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najomość branż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44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fesjonaliz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rność na stre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7"/>
          <p:cNvSpPr/>
          <p:nvPr/>
        </p:nvSpPr>
        <p:spPr>
          <a:xfrm>
            <a:off x="4357800" y="2786040"/>
            <a:ext cx="45720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szybkiego uczenia się/podnoszenia kwalifikacji zawodowy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h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tywacja do prac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dobrej organizacji pra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7"/>
          <p:cNvSpPr/>
          <p:nvPr/>
        </p:nvSpPr>
        <p:spPr>
          <a:xfrm>
            <a:off x="1071720" y="2071800"/>
            <a:ext cx="692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Dodatkowe wymagania stawiane kandydat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osób w szczególnej sytuacji 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6230-6659-4746-A7BF-7AFF3D931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ole tekstowe 7"/>
          <p:cNvSpPr/>
          <p:nvPr/>
        </p:nvSpPr>
        <p:spPr>
          <a:xfrm>
            <a:off x="785880" y="178596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połowa przedsiębiorców objętych badaniem nie planuje przyjęć do pracy osób, które znajdują się w szczególnej sytuacji na rynku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ęć zatrudnienia w swojej firmie pracownika spośród tej grupy osób wyraża 29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57200" y="3500280"/>
            <a:ext cx="6429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najbliższ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68BC-F1B7-4501-A854-5F18769EB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7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% przedsiębiorców zamierza zwalniać pracowników w ciągu najbliższych dwóch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5"/>
          <p:cNvSpPr/>
          <p:nvPr/>
        </p:nvSpPr>
        <p:spPr>
          <a:xfrm>
            <a:off x="3286080" y="2928960"/>
            <a:ext cx="3024360" cy="1079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czyny planowanych zwol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załka w dół 6"/>
          <p:cNvSpPr/>
          <p:nvPr/>
        </p:nvSpPr>
        <p:spPr>
          <a:xfrm>
            <a:off x="4572000" y="400068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8"/>
          <p:cNvSpPr/>
          <p:nvPr/>
        </p:nvSpPr>
        <p:spPr>
          <a:xfrm>
            <a:off x="928800" y="4429080"/>
            <a:ext cx="6072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lejące dochody przedsiębiors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iar likwidacji przedsiębiorstwa lub poszczególnych placów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ieczność redukcj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gaśnięcie umowy staż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C67C-5E5D-45AB-AD33-254035ABA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ole tekstowe 6"/>
          <p:cNvSpPr/>
          <p:nvPr/>
        </p:nvSpPr>
        <p:spPr>
          <a:xfrm>
            <a:off x="714240" y="214308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7CC7-7349-4E92-8E33-AC673013C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ole tekstowe 9"/>
          <p:cNvSpPr/>
          <p:nvPr/>
        </p:nvSpPr>
        <p:spPr>
          <a:xfrm>
            <a:off x="1214280" y="1989000"/>
            <a:ext cx="671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wiedzy na temat oferowanych przez Urząd form wspar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831-D762-4492-8BC5-0686A6D23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7"/>
          <p:cNvSpPr/>
          <p:nvPr/>
        </p:nvSpPr>
        <p:spPr>
          <a:xfrm>
            <a:off x="785880" y="207180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edsiębiorcy posiadający w swojej ocenie dobrą wiedzę na temat wsparcia udzielanego przez Urząd Pracy Powiatu Olsztyńskiego stanowią 23% ogółu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o dobrze w tej kwestii orientuje się 8,3% przedstawicieli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8"/>
          <p:cNvSpPr/>
          <p:nvPr/>
        </p:nvSpPr>
        <p:spPr>
          <a:xfrm>
            <a:off x="1071720" y="4214880"/>
            <a:ext cx="7286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Źródła wied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dia i prasa (32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urzędu (31,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 (29,5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8255-C808-4F95-B3F3-E1F162A45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3027240"/>
          </a:xfrm>
          <a:prstGeom prst="rect">
            <a:avLst/>
          </a:prstGeom>
          <a:ln w="0">
            <a:noFill/>
          </a:ln>
        </p:spPr>
      </p:pic>
      <p:sp>
        <p:nvSpPr>
          <p:cNvPr id="610" name="pole tekstowe 6"/>
          <p:cNvSpPr/>
          <p:nvPr/>
        </p:nvSpPr>
        <p:spPr>
          <a:xfrm>
            <a:off x="571680" y="4857840"/>
            <a:ext cx="76435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yczyny braku współp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trudnianie nowych praco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a aktywność działań podejmowanych przez Urzą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cz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ragmentarycznej wiedzy na temat dostępnych for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Formy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D45E-B374-4FBE-AA04-37EC640F7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6"/>
          <p:cNvSpPr/>
          <p:nvPr/>
        </p:nvSpPr>
        <p:spPr>
          <a:xfrm>
            <a:off x="642960" y="2500200"/>
            <a:ext cx="76438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ą formą wsparcia ze strony Urzędu, z której korzystają przedsiębiorcy są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 staże, dofinansowania do stanowiska pracy oraz pośrednictw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elu wypadkach współpraca ta opiera się również na pracach interwencyjnych oraz pomocy w poszukiwani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280E-2103-41A6-BC40-DFA22A3A4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6"/>
          <p:cNvSpPr/>
          <p:nvPr/>
        </p:nvSpPr>
        <p:spPr>
          <a:xfrm>
            <a:off x="642960" y="1857240"/>
            <a:ext cx="764388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Ponad 86% badanych twierdzi, że z Urzędem współpracuje się dobrze albo bardzo dobr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6675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6041-518E-4E94-BEE7-A2405C796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714240" y="52862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ólnej ocenie ponad 3/4 przedsiębiorców współpracujących z Urzędem Pracy jest zadowolonych z pozyskanych dzięki tej współpracy pracowników</a:t>
            </a: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22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F574-8D69-4C4F-8A1D-97BDA41B7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857160" y="14288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cenie ponad jednej trzeciej przedsiębiorców z powiatu olsztyńskiego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stopień skomplikowania procedur oraz dokumentacji stosowanych przez Urząd jest ni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357200" y="3071880"/>
            <a:ext cx="7000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A0B9-4821-4E64-BB3A-FE18AA1BA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6"/>
          <p:cNvSpPr/>
          <p:nvPr/>
        </p:nvSpPr>
        <p:spPr>
          <a:xfrm>
            <a:off x="785880" y="2357280"/>
            <a:ext cx="76438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 stopień skomplikowania procedur stosowanych przez Urząd Pracy Powiatu Olsztyńskiego może mieć pozytywny wpływ na chęć podejmowania współpracy z Urzędem również przez podmioty, które do tej pory nie korzystały z jego wspar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5AC2-92BA-4194-AE22-B4578ACA7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ole tekstowe 5"/>
          <p:cNvSpPr/>
          <p:nvPr/>
        </p:nvSpPr>
        <p:spPr>
          <a:xfrm>
            <a:off x="2428920" y="1928880"/>
            <a:ext cx="4000320" cy="107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e formy współpracy z Urzęd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11"/>
          <p:cNvSpPr/>
          <p:nvPr/>
        </p:nvSpPr>
        <p:spPr>
          <a:xfrm>
            <a:off x="1071720" y="3357720"/>
            <a:ext cx="66434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(43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fundacja kosztów doposażenia lub wyposażenia stanowiska pracy dla skierowanego bezrobotnego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ganizacja przygotowania zawodowego dla dorosłych (19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e interwencyjne (15,2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załka w dół 13"/>
          <p:cNvSpPr/>
          <p:nvPr/>
        </p:nvSpPr>
        <p:spPr>
          <a:xfrm>
            <a:off x="4286160" y="3000240"/>
            <a:ext cx="4320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3533-3B08-4725-B4BE-380109568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11"/>
          <p:cNvSpPr/>
          <p:nvPr/>
        </p:nvSpPr>
        <p:spPr>
          <a:xfrm>
            <a:off x="857160" y="214308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wynika z przeprowadzonego badania powiat olsztyński ma predyspozycję do rozwoju oraz wchłonięcia nowej siły roboczej. Istotne jest jednak nawiązanie ścisłej współpracy pracodawców z pracownikami  Urzędu Pracy Powiatu Olsztyńskiego, co pozwoli na dobór instrumentów i usług rynku pracy, które sprawią, iż osoby bezrobotne staną się bardziej atrakcyjne dla potencjalnych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5E1D-9884-4E0B-AFA5-8E1D16FFC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ole tekstowe 6"/>
          <p:cNvSpPr/>
          <p:nvPr/>
        </p:nvSpPr>
        <p:spPr>
          <a:xfrm>
            <a:off x="357120" y="214308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kszość z badanych przedsiębiorstw powstało w ostatnich pięciu bądź dziesięciu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em objęto jednostki, których siedziba znajdowała się na terenie powiatu olsztyńskiego lub też, których siedziba zlokalizowana na tym terenie posiadała samodzielną politykę personal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ich liczba znajduje się w mieście Biskupiec oraz Barczewo (w sumie ponad 42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uczestników badania (63% jednostek) stanowiły osoby fizyczne prowadzące działalność gospodarcz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419640" y="5589720"/>
            <a:ext cx="3155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20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76092"/>
                </a:solidFill>
                <a:latin typeface="Arial"/>
              </a:rPr>
              <a:t>Dziękujemy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BioStat - Logo"/>
          <p:cNvPicPr/>
          <p:nvPr/>
        </p:nvPicPr>
        <p:blipFill>
          <a:blip r:embed="rId1"/>
          <a:stretch/>
        </p:blipFill>
        <p:spPr>
          <a:xfrm>
            <a:off x="3500280" y="5229360"/>
            <a:ext cx="222408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5" descr="UE+EFS_L-kolor"/>
          <p:cNvPicPr/>
          <p:nvPr/>
        </p:nvPicPr>
        <p:blipFill>
          <a:blip r:embed="rId3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sięg terytorialny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9331-0D94-445F-8F8F-FB26F19E4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29600" cy="2990880"/>
          </a:xfrm>
          <a:prstGeom prst="rect">
            <a:avLst/>
          </a:prstGeom>
          <a:ln w="0">
            <a:noFill/>
          </a:ln>
        </p:spPr>
      </p:pic>
      <p:sp>
        <p:nvSpPr>
          <p:cNvPr id="482" name="pole tekstowe 6"/>
          <p:cNvSpPr/>
          <p:nvPr/>
        </p:nvSpPr>
        <p:spPr>
          <a:xfrm>
            <a:off x="1000080" y="542916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 odsetek badanych przedsiębiorstw - 58% - obejmuje swoim zasięgiem działania biznesowego obszar powi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zatrudnienia w badanych przedsiębiorstw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4BE1-6797-4CAA-9D90-7F5EA434C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ole tekstowe 6"/>
          <p:cNvSpPr/>
          <p:nvPr/>
        </p:nvSpPr>
        <p:spPr>
          <a:xfrm>
            <a:off x="1000080" y="1928880"/>
            <a:ext cx="678672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zarządzając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prawie 40% badanych firm, jednakże w znacznej części przedsiębiorstw do tego grona zaliczał się właściciel, bądź współwłaściciel fi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względu na duży udział firm o charakterze handlowo-usługowym w przypadku połowy badanych przedsiębiorstw zatrudnieni s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oraz sprze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specjalistów oraz pracowników biurowy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około jednej trzeciej badanych jednos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pracujący przy pracach prost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trudnieni są w 40% badanych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iekowa zatrudnionych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FCB9-2DB4-4B2B-AC4A-7D12D3B7E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6"/>
          <p:cNvSpPr/>
          <p:nvPr/>
        </p:nvSpPr>
        <p:spPr>
          <a:xfrm>
            <a:off x="1000080" y="19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w wieku pomiędzy 25 a 34 lat dominują w 37% badanych przedsiębiorstw. Prawie jedna piąta odpowiedzi wskazywała na przedział pomiędzy 35-44 lat jako dominujący wiek zatrudnion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3279600"/>
            <a:ext cx="63691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Dominująca forma zatrudni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F1A3-DC37-47A7-8B99-51B18C5FA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le tekstowe 6"/>
          <p:cNvSpPr/>
          <p:nvPr/>
        </p:nvSpPr>
        <p:spPr>
          <a:xfrm>
            <a:off x="1000080" y="192888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nad połowie badanych przedsiębiorstw z powiatu olsztyńskiego dominującym rodzajem umowy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a na czas nieokreśl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357200" y="3286080"/>
            <a:ext cx="6450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7:49Z</dcterms:created>
  <dc:creator>mszkarlat BioStat</dc:creator>
  <dc:description/>
  <dc:language>en-US</dc:language>
  <cp:lastModifiedBy>Michal</cp:lastModifiedBy>
  <dcterms:modified xsi:type="dcterms:W3CDTF">2010-12-12T15:17:50Z</dcterms:modified>
  <cp:revision>356</cp:revision>
  <dc:subject/>
  <dc:title>Badanie ewaluacyjne  projektu systemowego  „Cel – praca”</dc:title>
</cp:coreProperties>
</file>