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jpeg" ContentType="image/jpeg"/>
  <Override PartName="/ppt/media/image25.wmf" ContentType="image/x-wmf"/>
  <Override PartName="/ppt/media/image27.jpeg" ContentType="image/jpeg"/>
  <Override PartName="/ppt/media/image16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5866-0230-4052-A47C-49F3BA753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3968-6C4A-4744-85FB-96C16CD8C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7EC4-8276-49A8-BFE3-AC3167D0E8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9BFDA-9EB4-457C-B0C9-74FED20F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76E38-D005-4EC6-B7EB-9897A43B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787D7-1F1A-49A6-A918-E8C1A578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6AD01-0BB0-4186-8EC7-06546A41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D1D6A-0ED7-4E3A-94C4-F147BA62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281E7-34F6-4C70-900D-60AAEE05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06387-DD13-4951-B77E-4A8F9602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CB96B-39EF-49A3-90F2-075A06EF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F6855-F48E-421F-80C2-0DE3D22A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C9A1B-B97A-49EF-80CC-2ABF63A1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3118B4-B15B-4730-831D-70813E0A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4D4E-2A56-4D28-AC14-F4E505D6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8CFCE-A599-4DC1-B74C-D137FE0B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7DB4F-DC02-4A0E-A5E0-CED490F8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41265-7091-468D-A299-DEA01B19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5541E-46E5-4175-A7EE-BC33C483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EB1BA-8603-4B43-951E-5DAEAE22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F2BB4-B48A-4D2A-B85D-5AF7747D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28B33-4D38-470D-A8CC-114477FF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B4672-5CD3-4169-A1E4-17385EEB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B91EB-6744-4D03-B929-8CE64F6D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1B284-AE71-4945-B298-60D9AC03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C574-B231-48CB-9FE1-CFCA429219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657AF-0DB6-4F95-A580-F69BDD0A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B1BC5C-1858-4E80-8BE2-61D6FE43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D29B17-B6B4-492F-8D74-BC131ECC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89E6CA-3440-4BBA-A6E8-E53DF81E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55C012-60DF-4627-A308-A78ED2B7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6620FB-ABF3-443C-9248-9A6C2AB2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A5827F-95CA-4314-BB07-5344E80E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A8889D-94E3-44EE-BBFA-289F28F8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E1C6CF-5894-4A3C-A2DE-E71D36BD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E95191-F15F-48E7-AD65-A6937D8A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F0775-A31A-4D97-9B49-CE39B91511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9D0EF6-B2F0-490A-891E-54C44120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AF4BD7-2A78-4C0E-BC23-C4D7350A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1F3C30-2C28-45B2-BAED-64683FF2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8ADC1-7D41-4C3C-BE05-AE86294F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F222A-0D45-47C7-916D-C9433433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82B0B-2872-41F1-9805-9C3EC676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1A9B4-0225-4968-9EC2-6A2F28A3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629B0-A4B0-4BE8-A084-EFE3B1AD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4C5B7-2CD5-4481-BEC2-D5A225F5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9920-E766-482F-82BE-0A5DF49B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377C3-44C1-41A2-B133-D0B3A5D2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B0305-34C5-4BE3-89A2-382836C2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7DB12-C399-4796-8161-C4BF9D9B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49F93-CAC6-45E3-84BA-424F7681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E7C8C-AAA1-4ABB-B369-12AA52301F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0A9552-F43E-455A-A95C-C1DF1C30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E69297-0646-40FF-96EF-FF868371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31B032-38DF-41B0-B3C8-2A280133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B68C3B-5848-4584-A630-87546F15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735171-F9D7-481D-8D01-2E115ABD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57DA-E923-43FD-9DED-2BEDCD53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8C66BA-4E78-4CD9-A90F-0A813DEC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C3885B-2CCC-4F72-BDE8-AEA1944D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5D6A83-4785-48A9-BF2B-81D439AE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6F1C09-17D4-4233-9A4E-43C14C78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51105-C7E2-47FD-B4EB-1DF0A45B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D0B1A0-00A7-4C1C-8253-ECC9B74A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AF0DE8-F322-420D-928E-6E91AC69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F49380-D4E0-4882-8935-A3AA6AE5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5E105-A661-43B9-B485-C64EBC4B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7153FA-E737-40F5-AE5E-51F754C9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FB2C-39BC-4E75-9B2E-C30CC5BC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166B4-E0E0-44F6-BFD8-70ED96D9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5AEEF-B2E4-4CC0-B8DB-A4F9FEBF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3FF452-DEB8-4005-9739-6DF83481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963426-091D-4EF0-88CD-0B8B8B1F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90622E-E5DF-4615-B7A6-4208EC95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6972B-F4B3-46D0-9F9A-2BFD7B42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AC7041-32E6-4B02-88BE-CA3B6506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2D980-80C2-4335-A6DF-14F26133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69EC8-6D04-4A0C-B66F-1CC8E5C5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63500B-65E2-4C03-9725-802105FF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40F5-646F-4C40-BA24-27932054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C8A146-76AA-4E91-82E6-EC4669DC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553977-0276-483D-B309-6A10BF3A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E59087-9F68-49F8-BF27-2216D26C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28A428-E98F-4F36-8649-ED8D1962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9A8C07-FA2A-4D3A-95A5-59C49781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862060-22EE-42B5-B6EE-CF476FAF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1589B5-F130-40FC-85F3-AF829203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12043D-1D0D-423C-9A12-CD911F3B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222994-AF72-4D37-A9AE-1DBB5581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7C34AC-0270-42D0-B374-879888E5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9088-BA2A-4DF2-8CD2-156EA5E7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D3B6B3-704A-4340-8E9C-47BFC814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5BADF2-BD0A-45F5-8676-2E1CF208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84AFFC-60D9-45EC-B363-77587868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58EA81-666E-4220-80DA-E461B549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D35CB7-EDE7-4784-A3A4-213C8895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CDAA56-CA7E-4E5D-BC80-717E89B4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BCDA80-E3A1-4BDB-BDC9-0DEF558B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DB664A-F935-4188-BDE2-E7DECB3C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B8A3B7-CD51-420D-B051-57924BC1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7A5443-B997-45BD-9B14-D3E795BD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21D80-19DB-4C26-AA3E-E4568028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8EA9B1-C210-4B9C-8C0C-0CA8690F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04B5BE-2406-486C-8B87-C5A59060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2ED2D7-9525-4ACA-ACB7-4DF1C138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AF46BD-03A1-4DDF-9076-EC4CDB9E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086562-40CD-4C1C-9B6C-C82D6B59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699349-3B78-48A6-A107-AEACD209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2798E6-B850-4966-9C2B-194640AA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936CFB-668E-4B17-BF0F-D29CCD75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BA8D45-9DC7-426B-AB30-22F0DEAA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B897A3-68C2-45EE-9DDB-7B604EB7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EE2CD-6A21-4A7F-B046-89A5AB23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AB2D1D-F123-402C-AD40-4055F470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9DE68C-1909-46E0-AAF7-1E48FB32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FA55F6-B1DF-4893-8AF5-FE4FA928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3B5547-3CAF-4CE5-A5CC-D4A8DE96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B4A0D3-81EA-48BB-AED2-0C490149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79029B-3819-4C2A-983D-ADD29923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D5EEF6-4871-44E3-87DF-96F40208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A704DF-24C3-4DAD-B423-4EA1B127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CC2950-CA9D-4D95-814D-89C68D88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1A7728-92A9-4006-91D1-F9CCB499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6CFB1-E49D-4DB6-A80C-3CFA2A5D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624572-16F5-4BAF-B490-74E014FF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B6B21B-CF6F-4E19-9FDF-285CCB60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F15F4E-4634-41FB-9CD9-63DD8C47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5BDDF6-A726-4EEC-8DD0-683D4F81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8DBA11-2A8D-42E0-AD21-9ABC7DE7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2426DB-7E5C-4664-BFCF-8053143A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4148CF-5E1E-46D0-B16B-DD73A179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CAB8C-6322-4BFB-95AF-DD02148E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ACDB3-A9E8-4141-9F3B-E5116909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2E9C4-8554-4A53-9631-383A7C77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870D-B1DF-4970-89C2-9C81C77445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4B33-B93A-483D-80DD-429EB5826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24F8-4DE6-437A-B856-7C5822A4BF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C99F-60CA-4527-A1CF-20880B1DF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74A8-7E49-4DE8-BC82-536548CECC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C8CC-6C3C-4194-8641-37DC1964E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92B3-1600-4427-B087-1BF6EE627F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051A-028B-4A60-A491-0558981D2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2682-C5BE-4B41-A43C-01388E52A5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F534-ED7A-4C5A-94E9-0C5EB5119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DFE5-AF92-4130-B9B8-2D7A2476AD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0A05-610E-4FD1-99C1-F125D3470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FDE4-05D5-402B-B65D-49240291F8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BD1E-4F93-4AE7-8F51-C2863AB9E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BF72-42B5-4039-830B-5FF0BE4B19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0864-3ECB-49CB-A7C3-0F7CA2FF3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152B-5CCB-4A2A-95F9-EA15D80AF4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23B4-0FC9-4E84-ADFE-368C63329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780F-1E56-41B6-9EF6-D475F494E2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7286-06A6-42E7-BDE2-8FE462000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8F4C-970F-426E-B024-965344C42E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A8D2-FCAC-4078-B68B-A72AE278B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5" descr="UE+EFS_L-kolor"/>
          <p:cNvPicPr/>
          <p:nvPr/>
        </p:nvPicPr>
        <p:blipFill>
          <a:blip r:embed="rId2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  <p:sp>
        <p:nvSpPr>
          <p:cNvPr id="460" name="Tytuł 1"/>
          <p:cNvSpPr/>
          <p:nvPr/>
        </p:nvSpPr>
        <p:spPr>
          <a:xfrm>
            <a:off x="0" y="121428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Sytuacja i oczekiwan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pracodawców w powiec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olsztyńsk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"/>
          <p:cNvPicPr/>
          <p:nvPr/>
        </p:nvPicPr>
        <p:blipFill>
          <a:blip r:embed="rId3"/>
          <a:stretch/>
        </p:blipFill>
        <p:spPr>
          <a:xfrm>
            <a:off x="3429000" y="3143160"/>
            <a:ext cx="2357280" cy="2489400"/>
          </a:xfrm>
          <a:prstGeom prst="rect">
            <a:avLst/>
          </a:prstGeom>
          <a:ln w="0">
            <a:noFill/>
          </a:ln>
        </p:spPr>
      </p:pic>
      <p:pic>
        <p:nvPicPr>
          <p:cNvPr id="462" name="Obraz 14" descr=""/>
          <p:cNvPicPr/>
          <p:nvPr/>
        </p:nvPicPr>
        <p:blipFill>
          <a:blip r:embed="rId4"/>
          <a:stretch/>
        </p:blipFill>
        <p:spPr>
          <a:xfrm>
            <a:off x="428760" y="5929200"/>
            <a:ext cx="842760" cy="596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1746360" y="5930640"/>
            <a:ext cx="469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jekt Urzędu Pracy Powiatu Olsztyńskiego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Kwalifikacje Twoim kapitałem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spó</a:t>
            </a:r>
            <a:r>
              <a:rPr b="1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łf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ansowany przez Unię Europejską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6732720" y="4508640"/>
            <a:ext cx="18763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Realizac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Obraz 11" descr="BioStat - Logo"/>
          <p:cNvPicPr/>
          <p:nvPr/>
        </p:nvPicPr>
        <p:blipFill>
          <a:blip r:embed="rId5"/>
          <a:stretch/>
        </p:blipFill>
        <p:spPr>
          <a:xfrm>
            <a:off x="6804000" y="4869000"/>
            <a:ext cx="1486080" cy="2538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20"/>
          <p:cNvSpPr/>
          <p:nvPr/>
        </p:nvSpPr>
        <p:spPr>
          <a:xfrm>
            <a:off x="6732720" y="5157720"/>
            <a:ext cx="20001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12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7564-3C3B-44EB-81B3-8FC7A5609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ole tekstowe 6"/>
          <p:cNvSpPr/>
          <p:nvPr/>
        </p:nvSpPr>
        <p:spPr>
          <a:xfrm>
            <a:off x="1619280" y="1989000"/>
            <a:ext cx="619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Funkcjonowanie badanych przedsiębiorst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Kondycja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A61E-798E-4FB9-910A-B4EB5906A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ole tekstowe 6"/>
          <p:cNvSpPr/>
          <p:nvPr/>
        </p:nvSpPr>
        <p:spPr>
          <a:xfrm>
            <a:off x="1000080" y="171468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liczba badanych – 40,9% – wskazała na  średni poziom kondycji przedsiębiorstwa (ani dobra, ani zła)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37% przedsiębiorców określiło kondycję swojej firmy jako dobr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57200" y="3143160"/>
            <a:ext cx="70009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rognozowany popyt na produkty/usługi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BC8F-E1E1-4ACF-84A1-DFDBE9F15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(29,2%) uznał, iż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pyt w ich firmie w przeciągu najbliższych 12 miesięcy nie ulegnie zmi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428840" y="2786040"/>
          <a:ext cx="6786360" cy="2855880"/>
        </p:xfrm>
        <a:graphic>
          <a:graphicData uri="http://schemas.openxmlformats.org/drawingml/2006/table">
            <a:tbl>
              <a:tblPr/>
              <a:tblGrid>
                <a:gridCol w="5286240"/>
                <a:gridCol w="1500120"/>
              </a:tblGrid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wskaza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szybciej niż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 tym samym temp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olni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taki sam jak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niższ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dno powiedzie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gół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pływ recesji gospodarczej na funkcjonowanie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B66A-5943-4DBF-AE57-1699C1FB3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7% respondentów uznało, iż recesja gospodarcza miała wpływ na funkcjonowanie ich przedsiębior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143000" y="2714760"/>
            <a:ext cx="7292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Czynniki wpływające na rozwój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3988-94CE-4BA9-85B5-694ACC77A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ole tekstowe 6"/>
          <p:cNvSpPr/>
          <p:nvPr/>
        </p:nvSpPr>
        <p:spPr>
          <a:xfrm>
            <a:off x="100008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liczniejsza grupa respondentów uznała, iż 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 finans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łby rozwój ich przedsiębiorstwa. Niemalże równie istotny wpływ na rozwój firmy, zdaniem respondentów maj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i gospodarc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500120" y="3071880"/>
            <a:ext cx="6643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Bariery w rozwoju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AB6B-513F-4FB7-9135-370D54EBB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ole tekstowe 6"/>
          <p:cNvSpPr/>
          <p:nvPr/>
        </p:nvSpPr>
        <p:spPr>
          <a:xfrm>
            <a:off x="1143000" y="2143080"/>
            <a:ext cx="657216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Najpoważniejsze przeszkody w procesie rozwoju, jakie wskazują pracodawc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ariera finansowa, czyli brak środków na podjęcie konkretnych dział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iurokracja ograniczająca rozwój podmiotów gospodarcz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byt mała ilość klientów i duża konkurencja na ry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B6EA-E162-44CA-A901-9DFCEA70D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ole tekstowe 6"/>
          <p:cNvSpPr/>
          <p:nvPr/>
        </p:nvSpPr>
        <p:spPr>
          <a:xfrm>
            <a:off x="1000080" y="52149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ostatnich dwóch lat poprzedzających badanie,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owych pracowników przyjęło 43,0% objętych badaniem firm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tomiast 57,0% respondentów odpowiedziało, że w ciągu ostatnich dwóch lat nie przyjmowali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759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9D85-06D9-4B98-851C-8DF68EB63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ole tekstowe 6"/>
          <p:cNvSpPr/>
          <p:nvPr/>
        </p:nvSpPr>
        <p:spPr>
          <a:xfrm>
            <a:off x="971640" y="1916280"/>
            <a:ext cx="73580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przedsiębiorców przyjęło nowych pracowników na zasadz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y o pracę na czas określon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owisko takie zadeklarowało 53,0%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5,0% respondentów  zatrudniło nowych pracowników w oparciu 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ę na czas nieokreśl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56% respondentów uważa, że zatrudnieni przez nich pracownicy posiadali wykształcenie adekwatne do wykonywanego przez nich zaw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A5FF-BCA2-4800-BCA8-25F056396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ole tekstowe 6"/>
          <p:cNvSpPr/>
          <p:nvPr/>
        </p:nvSpPr>
        <p:spPr>
          <a:xfrm>
            <a:off x="714240" y="2000160"/>
            <a:ext cx="735804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grupie badanych 500 przedsiębiorstw, w ciągu ostatnich dwóch lat zatrudni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kadry zarządzając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tanowiska specjalistyczn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jęto 185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średni personel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trudniono 167 osó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decydowanie liczniejszą grupę stanowili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i sprzedawc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301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 przeprowadzonej ankiety wynika, że większość nowoprzyjętych pracowników (875 osób) stanowiły osoby wykonujące prace pr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9E35-5785-4BE0-BF0E-205A46A55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ole tekstowe 6"/>
          <p:cNvSpPr/>
          <p:nvPr/>
        </p:nvSpPr>
        <p:spPr>
          <a:xfrm>
            <a:off x="714240" y="1857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nowo zatrudnionych pracowników stanowiły osoby w przedziale wiekowym 25-34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1071720" y="2749680"/>
            <a:ext cx="7143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Cel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Badanie lokalnego rynku pracy na terenie powiatu olsztyńskiego, miało na celu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  <a:ea typeface="Arial"/>
              </a:rPr>
              <a:t>zdiagnozowanie zapotrzebowania pracodawców na kwalifikacje i umiejętności zawodowe kandydatów do pracy  oraz usługi i instrumenty rynku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Cele szczegółowe projektu 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naliza sytuacji na lokalnym rynku pracy, jego dynamiki oraz kierunków zmi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 popytu na pracę w odniesieniu do ilości tworzonych przez pracodawców miejsc pracy posiadanych ofert pracy oraz pożądanych kwalifikacji i umiejętności zawodowych kandydatów do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zapotrzebowania pracodawców na usługi i instrumenty rynku pracy realizowane przez urząd</a:t>
            </a:r>
            <a:r>
              <a:rPr b="0" lang="pl-P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0F71-A362-4326-BE20-123DE5401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F974-99E3-4E0B-A21E-16FC2B64B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ole tekstowe 6"/>
          <p:cNvSpPr/>
          <p:nvPr/>
        </p:nvSpPr>
        <p:spPr>
          <a:xfrm>
            <a:off x="684360" y="1916280"/>
            <a:ext cx="799128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40% pracodawców zatrudniło w ciągu ostatnich dwóch lat absolwentów szkół, osoby uczące się oraz osoby powyżej 50 roku ży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drugim biegunie znajdują się osoby niepełnosprawne, które w ostatnich dwóch latach zatrudniło tylko nieco ponad 8%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143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3687-A705-457D-8BBF-0D241D606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ole tekstowe 6"/>
          <p:cNvSpPr/>
          <p:nvPr/>
        </p:nvSpPr>
        <p:spPr>
          <a:xfrm>
            <a:off x="714240" y="185724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zatrudnionych osób stanowiły osoby z wykształceniem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zasadniczym zawodowym oraz średnim zawodowy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92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A13C-F42C-458B-B259-8C3F23CEA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7"/>
          <p:cNvSpPr/>
          <p:nvPr/>
        </p:nvSpPr>
        <p:spPr>
          <a:xfrm>
            <a:off x="785880" y="1643040"/>
            <a:ext cx="757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77 pracodawców zwalniało pracowników w ciągu ostatnich dwóch lat. Łącznie zwolnili oni 403 oso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5% osób zwolnionych w ciągu ostatnich dwóch lat to właśnie pracownicy stanowisk przy pracach prostych, usług osobistych i sprzedaw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mal dwukrotnie częściej dochodzi do zwalniania mężczyzn niż kobiet, co może wiązać się z większą ruchliwością mężczyzn na rynku pra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więcej firm zwalniało osoby w przedziale wiekowym między 35 a 44 rokiem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decydowana większość spośród zwolnionych z pracy, tj. 52% to osoby powyżej 50 roku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rzadziej zwalnianymi przez pracodawców były osoby niepełnosprawne oraz kobiety, które urodziły dziecko, łącznie obie grupy stanowiły 8,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78AA-AF09-4DD3-926D-1245B8BF4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ole tekstowe 6"/>
          <p:cNvSpPr/>
          <p:nvPr/>
        </p:nvSpPr>
        <p:spPr>
          <a:xfrm>
            <a:off x="785880" y="1989000"/>
            <a:ext cx="735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Ewaluacja potrzeb szkoleniowych </a:t>
            </a:r>
            <a:br>
              <a:rPr sz="4800"/>
            </a:b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 badanych przedsiębiorstw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55AC-A72A-4A84-B2B1-228B01078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ole tekstowe 6"/>
          <p:cNvSpPr/>
          <p:nvPr/>
        </p:nvSpPr>
        <p:spPr>
          <a:xfrm>
            <a:off x="785880" y="18572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co ponad 40% przedstawicieli badanych przedsiębiorstw z powiatu olsztyńskiego wskazało, że dominującym wykształceniem wśród ich pracowników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wykształcenie średnie ogólnokształcą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7047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zadowolenia z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82C1-A590-4CD8-80CA-BF2710D49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ole tekstowe 6"/>
          <p:cNvSpPr/>
          <p:nvPr/>
        </p:nvSpPr>
        <p:spPr>
          <a:xfrm>
            <a:off x="857160" y="5286240"/>
            <a:ext cx="7358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decydowana większość badanych odpowiedziała, że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jest zadowolona z wykształcenia i umiejętności swoich pracownik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1228680" y="1785960"/>
            <a:ext cx="6932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godność wykształcenia pracowników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 wykonywanym zaw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50E9-8F56-4C06-9A4A-E81E7FE45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6"/>
          <p:cNvSpPr/>
          <p:nvPr/>
        </p:nvSpPr>
        <p:spPr>
          <a:xfrm>
            <a:off x="857160" y="5286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60% przedsiębiorców wskazało, że pracownicy wykonują pracę zgodną z ich zawo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214280" y="1928880"/>
            <a:ext cx="666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anie osób w szczególnej sytuacji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45E4-E7F6-4CEB-B9B2-33897436E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ole tekstowe 6"/>
          <p:cNvSpPr/>
          <p:nvPr/>
        </p:nvSpPr>
        <p:spPr>
          <a:xfrm>
            <a:off x="857160" y="2214720"/>
            <a:ext cx="73580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połowa pracodawców potwierdziła, że zatrudni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powyżej 50 roku ży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7% badanych oferuje pracę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obietom po urodzeniu dziec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Absolwenci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którzy ukończyli szkołę w ciągu ostatnich dwóch lat  ora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czniowie i studenc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 pracownikami prawie co trzeciej badanej fir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1f497d"/>
                </a:solidFill>
                <a:latin typeface="Arial"/>
              </a:rPr>
              <a:t>Zainteresowanie kształceniem pracowników/podnoszeniem ich kwalifikacji poprzez szkole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FCC6-0248-4D98-9648-AC22E859C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100160" y="2071800"/>
            <a:ext cx="7089840" cy="3214440"/>
          </a:xfrm>
          <a:prstGeom prst="rect">
            <a:avLst/>
          </a:prstGeom>
          <a:ln w="0">
            <a:noFill/>
          </a:ln>
        </p:spPr>
      </p:pic>
      <p:sp>
        <p:nvSpPr>
          <p:cNvPr id="560" name="pole tekstowe 7"/>
          <p:cNvSpPr/>
          <p:nvPr/>
        </p:nvSpPr>
        <p:spPr>
          <a:xfrm>
            <a:off x="714240" y="557208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wie połowa badanych wyraża zainteresowanie podnoszeniem kwalifikacji swoich pracowników poprzez szkol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dotychczasowych szkoleń pracownicz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7EEF-5C96-4229-9D4D-F3370B50D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7286760" cy="3278160"/>
          </a:xfrm>
          <a:prstGeom prst="rect">
            <a:avLst/>
          </a:prstGeom>
          <a:ln w="0">
            <a:noFill/>
          </a:ln>
        </p:spPr>
      </p:pic>
      <p:sp>
        <p:nvSpPr>
          <p:cNvPr id="564" name="pole tekstowe 7"/>
          <p:cNvSpPr/>
          <p:nvPr/>
        </p:nvSpPr>
        <p:spPr>
          <a:xfrm>
            <a:off x="714240" y="528624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tematyki, dotychczas organizowanych szkoleń, dominował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zkolenia BHP, szkolenia z zakresu sprzedaży i obsługi klienta, administracyjno-biurowe oraz szkolenia zawodow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Metodologia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8552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Badanie zostało zrealizowane w okresie od października do listopada 2010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  <a:ea typeface="Arial"/>
              </a:rPr>
              <a:t>Techniki i narzędzia badawcz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danych zasta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wiady kwestionariusz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50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Indywidualny wywiad pogłębiony (IDI)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3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BFD6-22E4-43D9-94D8-F31D8D3CE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BD2A-5336-46DF-A2A1-F5C3E46E2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6"/>
          <p:cNvSpPr/>
          <p:nvPr/>
        </p:nvSpPr>
        <p:spPr>
          <a:xfrm>
            <a:off x="1428840" y="1989000"/>
            <a:ext cx="664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Plany przedsiębiorców dotyczące zatrudnie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2774-7E41-4886-B47D-E879F3864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7"/>
          <p:cNvSpPr/>
          <p:nvPr/>
        </p:nvSpPr>
        <p:spPr>
          <a:xfrm>
            <a:off x="642960" y="1717560"/>
            <a:ext cx="75722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5% przedsiębiorców z powiatu olsztyńskiego wskazało na brak trudności z dostępnością pracowników na lokalnym rynku p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udności w tym zakresie dostrzega łącznie 29,7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mniejsze problemy ze znalezieniem nowych pracowników mają przedsiębiorstwa związane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ieruchomościami, organizacje i stowarzyszenia oraz przedsiębiorstwa z branży finansow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e trudności w znalezieniu nowych pracowników pojawiają się w przedsiębiorstwach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branży motoryzacyjnej oraz w jednostkach służby zdrow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pracowników w ciągu kolejn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B7F1-BBB2-4149-8435-2A0A9FA52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7"/>
          <p:cNvSpPr/>
          <p:nvPr/>
        </p:nvSpPr>
        <p:spPr>
          <a:xfrm>
            <a:off x="857160" y="542916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oło 19% objętych badaniem osób stwierdziło, iż planuje w okresie kolejnych dwóch lat przyjąć now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6978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F42E-7439-417F-89CF-46E73F014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ole tekstowe 7"/>
          <p:cNvSpPr/>
          <p:nvPr/>
        </p:nvSpPr>
        <p:spPr>
          <a:xfrm>
            <a:off x="642960" y="2500200"/>
            <a:ext cx="774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Badani przedsiębiorcy z terenu powiatu olsztyńskiego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 większości deklarują, że zatrudniliby więcej pracowników mając wsparcie lokalnych instytucji rynku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8E06-95E0-44FF-B5C7-CBB27804B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ole tekstowe 7"/>
          <p:cNvSpPr/>
          <p:nvPr/>
        </p:nvSpPr>
        <p:spPr>
          <a:xfrm>
            <a:off x="500040" y="2071800"/>
            <a:ext cx="757224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dawcy, którzy wzięli udział w badaniu najczęściej poszukują pracowników na stanowiska związane z działalnością gastronomiczną, tj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elnera, barmana, pomoc kuchenną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respondentów pojawiła się dość znaczna grupa właścicieli przedsiębiorstw, którzy obecnie poszukują do prac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robotników oraz wysoko wyspecjalizowanych pracowników w branży budowlanej, np. murarza, operatora wiert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3964-AF11-4E39-8DEF-1FD8CBFC0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ole tekstowe 7"/>
          <p:cNvSpPr/>
          <p:nvPr/>
        </p:nvSpPr>
        <p:spPr>
          <a:xfrm>
            <a:off x="857160" y="2786040"/>
            <a:ext cx="714384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m zainteresowaniem ze strony badanych cieszą się osoby z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ykształceniem średnim zawodowym, zasadniczym zawodowym oraz wyższ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697B-DCD0-4353-8815-EF19165A5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ole tekstowe 7"/>
          <p:cNvSpPr/>
          <p:nvPr/>
        </p:nvSpPr>
        <p:spPr>
          <a:xfrm>
            <a:off x="857160" y="1643040"/>
            <a:ext cx="71438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Podstawowe wymagania stawiane kandyd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siadanie prawa jazd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komputer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jomości metod sprzedaży bezpośredniej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4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maszy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tokarz, stolarz, etc.) (30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tawowa wiedza z zakresu księgowości, ekonomii i finans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2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CFAF-2FD5-45CC-AA37-BAAC9AD35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ole tekstowe 7"/>
          <p:cNvSpPr/>
          <p:nvPr/>
        </p:nvSpPr>
        <p:spPr>
          <a:xfrm>
            <a:off x="285840" y="2428920"/>
            <a:ext cx="500040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munikatyw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6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najomość branż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44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fesjonaliz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rność na stres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ole tekstowe 7"/>
          <p:cNvSpPr/>
          <p:nvPr/>
        </p:nvSpPr>
        <p:spPr>
          <a:xfrm>
            <a:off x="4357800" y="2786040"/>
            <a:ext cx="457200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szybkiego uczenia się/podnoszenia kwalifikacji zawodowy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h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otywacja do prac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dobrej organizacji pra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y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ole tekstowe 7"/>
          <p:cNvSpPr/>
          <p:nvPr/>
        </p:nvSpPr>
        <p:spPr>
          <a:xfrm>
            <a:off x="1071720" y="2071800"/>
            <a:ext cx="692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Dodatkowe wymagania stawiane kandydato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osób w szczególnej sytuacji 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6837-364F-4383-899D-7F540174A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ole tekstowe 7"/>
          <p:cNvSpPr/>
          <p:nvPr/>
        </p:nvSpPr>
        <p:spPr>
          <a:xfrm>
            <a:off x="785880" y="178596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połowa przedsiębiorców objętych badaniem nie planuje przyjęć do pracy osób, które znajdują się w szczególnej sytuacji na rynku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ęć zatrudnienia w swojej firmie pracownika spośród tej grupy osób wyraża 29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57200" y="3500280"/>
            <a:ext cx="64296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najbliższ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6AD9-3C92-426B-8BDD-C7F38023F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ole tekstowe 7"/>
          <p:cNvSpPr/>
          <p:nvPr/>
        </p:nvSpPr>
        <p:spPr>
          <a:xfrm>
            <a:off x="785880" y="207180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% przedsiębiorców zamierza zwalniać pracowników w ciągu najbliższych dwóch 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ole tekstowe 5"/>
          <p:cNvSpPr/>
          <p:nvPr/>
        </p:nvSpPr>
        <p:spPr>
          <a:xfrm>
            <a:off x="3286080" y="2928960"/>
            <a:ext cx="3024360" cy="1079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czyny planowanych zwoln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załka w dół 6"/>
          <p:cNvSpPr/>
          <p:nvPr/>
        </p:nvSpPr>
        <p:spPr>
          <a:xfrm>
            <a:off x="4572000" y="4000680"/>
            <a:ext cx="431640" cy="14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ole tekstowe 8"/>
          <p:cNvSpPr/>
          <p:nvPr/>
        </p:nvSpPr>
        <p:spPr>
          <a:xfrm>
            <a:off x="928800" y="4429080"/>
            <a:ext cx="60721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lejące dochody przedsiębiors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miar likwidacji przedsiębiorstwa lub poszczególnych placów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ieczność redukcji zatrudni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gaśnięcie umowy staż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ow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7679-5461-40EF-837C-064171C1F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ole tekstowe 6"/>
          <p:cNvSpPr/>
          <p:nvPr/>
        </p:nvSpPr>
        <p:spPr>
          <a:xfrm>
            <a:off x="714240" y="2143080"/>
            <a:ext cx="771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99F5-042E-49CB-BA99-1BEB48697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ole tekstowe 9"/>
          <p:cNvSpPr/>
          <p:nvPr/>
        </p:nvSpPr>
        <p:spPr>
          <a:xfrm>
            <a:off x="1214280" y="1989000"/>
            <a:ext cx="671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wiedzy na temat oferowanych przez Urząd form wspar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0B58-2CB5-440E-A62B-1CA4BD1D6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ole tekstowe 7"/>
          <p:cNvSpPr/>
          <p:nvPr/>
        </p:nvSpPr>
        <p:spPr>
          <a:xfrm>
            <a:off x="785880" y="207180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edsiębiorcy posiadający w swojej ocenie dobrą wiedzę na temat wsparcia udzielanego przez Urząd Pracy Powiatu Olsztyńskiego stanowią 23% ogółu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rdzo dobrze w tej kwestii orientuje się 8,3% przedstawicieli przedsiębiorst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ole tekstowe 8"/>
          <p:cNvSpPr/>
          <p:nvPr/>
        </p:nvSpPr>
        <p:spPr>
          <a:xfrm>
            <a:off x="1071720" y="4214880"/>
            <a:ext cx="72864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Źródła wiedz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edia i prasa (32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urzędu (31,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net (29,5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1963-AC62-4B72-9F5E-61824B235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6357960" cy="3027240"/>
          </a:xfrm>
          <a:prstGeom prst="rect">
            <a:avLst/>
          </a:prstGeom>
          <a:ln w="0">
            <a:noFill/>
          </a:ln>
        </p:spPr>
      </p:pic>
      <p:sp>
        <p:nvSpPr>
          <p:cNvPr id="610" name="pole tekstowe 6"/>
          <p:cNvSpPr/>
          <p:nvPr/>
        </p:nvSpPr>
        <p:spPr>
          <a:xfrm>
            <a:off x="571680" y="4857840"/>
            <a:ext cx="76435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yczyny braku współpra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trudnianie nowych pracownik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ała aktywność działań podejmowanych przez Urzą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cza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ragmentarycznej wiedzy na temat dostępnych form wsp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Formy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7F6A-1896-4415-96F7-1C0030EBD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ole tekstowe 6"/>
          <p:cNvSpPr/>
          <p:nvPr/>
        </p:nvSpPr>
        <p:spPr>
          <a:xfrm>
            <a:off x="642960" y="2500200"/>
            <a:ext cx="764388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częstszą formą wsparcia ze strony Urzędu, z której korzystają przedsiębiorcy są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 staże, dofinansowania do stanowiska pracy oraz pośrednictwo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elu wypadkach współpraca ta opiera się również na pracach interwencyjnych oraz pomocy w poszukiwaniu pracowni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EDA7-1AE4-4D27-BA5F-589F11660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ole tekstowe 6"/>
          <p:cNvSpPr/>
          <p:nvPr/>
        </p:nvSpPr>
        <p:spPr>
          <a:xfrm>
            <a:off x="642960" y="1857240"/>
            <a:ext cx="764388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Ponad 86% badanych twierdzi, że z Urzędem współpracuje się dobrze albo bardzo dobr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6675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5737-81E5-4860-A978-45885220D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ole tekstowe 6"/>
          <p:cNvSpPr/>
          <p:nvPr/>
        </p:nvSpPr>
        <p:spPr>
          <a:xfrm>
            <a:off x="714240" y="52862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ólnej ocenie ponad 3/4 przedsiębiorców współpracujących z Urzędem Pracy jest zadowolonych z pozyskanych dzięki tej współpracy pracowników</a:t>
            </a: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7223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DBD6-4BF7-4952-8051-F42538669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ole tekstowe 6"/>
          <p:cNvSpPr/>
          <p:nvPr/>
        </p:nvSpPr>
        <p:spPr>
          <a:xfrm>
            <a:off x="857160" y="14288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cenie ponad jednej trzeciej przedsiębiorców z powiatu olsztyńskiego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stopień skomplikowania procedur oraz dokumentacji stosowanych przez Urząd jest ni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357200" y="3071880"/>
            <a:ext cx="7000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33E7-84D2-471F-B0DF-631FCBAED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ole tekstowe 6"/>
          <p:cNvSpPr/>
          <p:nvPr/>
        </p:nvSpPr>
        <p:spPr>
          <a:xfrm>
            <a:off x="785880" y="2357280"/>
            <a:ext cx="764388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ski stopień skomplikowania procedur stosowanych przez Urząd Pracy Powiatu Olsztyńskiego może mieć pozytywny wpływ na chęć podejmowania współpracy z Urzędem również przez podmioty, które do tej pory nie korzystały z jego wspar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0561-2079-4449-9992-AFC0D179E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ole tekstowe 5"/>
          <p:cNvSpPr/>
          <p:nvPr/>
        </p:nvSpPr>
        <p:spPr>
          <a:xfrm>
            <a:off x="2428920" y="1928880"/>
            <a:ext cx="4000320" cy="107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e formy współpracy z Urzęd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11"/>
          <p:cNvSpPr/>
          <p:nvPr/>
        </p:nvSpPr>
        <p:spPr>
          <a:xfrm>
            <a:off x="1071720" y="3357720"/>
            <a:ext cx="664344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że (43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fundacja kosztów doposażenia lub wyposażenia stanowiska pracy dla skierowanego bezrobotnego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ganizacja przygotowania zawodowego dla dorosłych (19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ace interwencyjne (15,2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załka w dół 13"/>
          <p:cNvSpPr/>
          <p:nvPr/>
        </p:nvSpPr>
        <p:spPr>
          <a:xfrm>
            <a:off x="4286160" y="3000240"/>
            <a:ext cx="432000" cy="1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16E1-6130-4199-AFBD-11C7D5E6F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ole tekstowe 11"/>
          <p:cNvSpPr/>
          <p:nvPr/>
        </p:nvSpPr>
        <p:spPr>
          <a:xfrm>
            <a:off x="857160" y="2143080"/>
            <a:ext cx="70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 wynika z przeprowadzonego badania powiat olsztyński ma predyspozycję do rozwoju oraz wchłonięcia nowej siły roboczej. Istotne jest jednak nawiązanie ścisłej współpracy pracodawców z pracownikami  Urzędu Pracy Powiatu Olsztyńskiego, co pozwoli na dobór instrumentów i usług rynku pracy, które sprawią, iż osoby bezrobotne staną się bardziej atrakcyjne dla potencjalnych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4D8D-BD2E-459D-AFAB-520AD29AE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ole tekstowe 6"/>
          <p:cNvSpPr/>
          <p:nvPr/>
        </p:nvSpPr>
        <p:spPr>
          <a:xfrm>
            <a:off x="357120" y="2143080"/>
            <a:ext cx="856944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ększość z badanych przedsiębiorstw powstało w ostatnich pięciu bądź dziesięciu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daniem objęto jednostki, których siedziba znajdowała się na terenie powiatu olsztyńskiego lub też, których siedziba zlokalizowana na tym terenie posiadała samodzielną politykę personal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ich liczba znajduje się w mieście Biskupiec oraz Barczewo (w sumie ponad 42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uczestników badania (63% jednostek) stanowiły osoby fizyczne prowadzące działalność gospodarcz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3419640" y="5589720"/>
            <a:ext cx="3155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20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76092"/>
                </a:solidFill>
                <a:latin typeface="Arial"/>
              </a:rPr>
              <a:t>Dziękujemy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BioStat - Logo"/>
          <p:cNvPicPr/>
          <p:nvPr/>
        </p:nvPicPr>
        <p:blipFill>
          <a:blip r:embed="rId1"/>
          <a:stretch/>
        </p:blipFill>
        <p:spPr>
          <a:xfrm>
            <a:off x="3500280" y="5229360"/>
            <a:ext cx="2224080" cy="360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5" descr="UE+EFS_L-kolor"/>
          <p:cNvPicPr/>
          <p:nvPr/>
        </p:nvPicPr>
        <p:blipFill>
          <a:blip r:embed="rId3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sięg terytorialny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DFD8-5EE4-4DBA-9D01-6EB1F1E88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357200" y="2071800"/>
            <a:ext cx="6429600" cy="2990880"/>
          </a:xfrm>
          <a:prstGeom prst="rect">
            <a:avLst/>
          </a:prstGeom>
          <a:ln w="0">
            <a:noFill/>
          </a:ln>
        </p:spPr>
      </p:pic>
      <p:sp>
        <p:nvSpPr>
          <p:cNvPr id="482" name="pole tekstowe 6"/>
          <p:cNvSpPr/>
          <p:nvPr/>
        </p:nvSpPr>
        <p:spPr>
          <a:xfrm>
            <a:off x="1000080" y="542916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 odsetek badanych przedsiębiorstw - 58% - obejmuje swoim zasięgiem działania biznesowego obszar powia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zatrudnienia w badanych przedsiębiorstw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B8D7-20AA-48CD-9734-02EFA766F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ole tekstowe 6"/>
          <p:cNvSpPr/>
          <p:nvPr/>
        </p:nvSpPr>
        <p:spPr>
          <a:xfrm>
            <a:off x="1000080" y="1928880"/>
            <a:ext cx="678672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zarządzając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prawie 40% badanych firm, jednakże w znacznej części przedsiębiorstw do tego grona zaliczał się właściciel, bądź współwłaściciel fi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 względu na duży udział firm o charakterze handlowo-usługowym w przypadku połowy badanych przedsiębiorstw zatrudnieni s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oraz sprze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specjalistów oraz pracowników biurowych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około jednej trzeciej badanych jednos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pracujący przy pracach prost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trudnieni są w 40% badanych fi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iekowa zatrudnionych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9EF4-5698-4A9B-9134-56EDA30C9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ole tekstowe 6"/>
          <p:cNvSpPr/>
          <p:nvPr/>
        </p:nvSpPr>
        <p:spPr>
          <a:xfrm>
            <a:off x="1000080" y="192888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w wieku pomiędzy 25 a 34 lat dominują w 37% badanych przedsiębiorstw. Prawie jedna piąta odpowiedzi wskazywała na przedział pomiędzy 35-44 lat jako dominujący wiek zatrudnion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428840" y="3279600"/>
            <a:ext cx="63691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Dominująca forma zatrudni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0687-C290-4E82-83D8-ABE381F91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ole tekstowe 6"/>
          <p:cNvSpPr/>
          <p:nvPr/>
        </p:nvSpPr>
        <p:spPr>
          <a:xfrm>
            <a:off x="1000080" y="192888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nad połowie badanych przedsiębiorstw z powiatu olsztyńskiego dominującym rodzajem umowy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a na czas nieokreślo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357200" y="3286080"/>
            <a:ext cx="6450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37:49Z</dcterms:created>
  <dc:creator>mszkarlat BioStat</dc:creator>
  <dc:description/>
  <dc:language>en-US</dc:language>
  <cp:lastModifiedBy>Michal</cp:lastModifiedBy>
  <dcterms:modified xsi:type="dcterms:W3CDTF">2010-12-12T15:17:50Z</dcterms:modified>
  <cp:revision>356</cp:revision>
  <dc:subject/>
  <dc:title>Badanie ewaluacyjne  projektu systemowego  „Cel – praca”</dc:title>
</cp:coreProperties>
</file>